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135682"/>
        <c:axId val="95141457"/>
      </c:barChart>
      <c:catAx>
        <c:axId val="49135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41457"/>
        <c:crosses val="autoZero"/>
        <c:auto val="1"/>
        <c:lblAlgn val="ctr"/>
        <c:lblOffset val="100"/>
        <c:noMultiLvlLbl val="0"/>
      </c:catAx>
      <c:valAx>
        <c:axId val="951414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135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BB48-BA6B-49FB-90DD-060582A37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54A-C29C-4C79-962C-B53129CC0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0FD-3A08-48E0-A43B-3E203E4A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5570-EE7E-4857-B823-8BAA4F9C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ED7-9521-4A68-88A9-678FEAB8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0DF6-3095-4266-B8C9-54C04B9D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F96F-53F6-4072-82B0-5A9778B4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F6EF-D056-40AE-9EF0-E431382D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A508-55BB-4038-91A5-6997BF40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A0E-2BE8-4099-A3E8-36306F97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B9BF-8F70-4B40-86F9-188EA573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256C-3142-44CD-88C4-06441E83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94ABB-E27B-4242-8605-A18C24BAD7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