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39467"/>
        <c:axId val="61041060"/>
      </c:barChart>
      <c:catAx>
        <c:axId val="289394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41060"/>
        <c:crosses val="autoZero"/>
        <c:auto val="1"/>
        <c:lblAlgn val="ctr"/>
        <c:lblOffset val="100"/>
        <c:noMultiLvlLbl val="0"/>
      </c:catAx>
      <c:valAx>
        <c:axId val="610410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394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2948-7D7A-4027-9BBA-8AD86EAF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A71-7B95-46D0-A5F7-99820A89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0E39-96BE-4250-A87D-72AE3A9CF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1FBF-34AD-47E8-89B4-27D7E6BB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6BD2-A1BF-4A17-BFDD-E983B109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0256-233F-4C3B-9F84-BB6A7D7B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D1B2-06D1-46CC-951B-D51A98AE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FBF-A75B-479D-9A84-CEA48391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EC6C-FA94-4210-92D9-D820611D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F5AB-A81F-4256-A686-D511B39C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6B81-243B-43EE-8CFB-805963A7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F6C8-AE7A-4A0A-8AB0-273E2B00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BF875-19EE-4F59-BC54-45BCDAC826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