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80789"/>
        <c:axId val="32191317"/>
      </c:barChart>
      <c:catAx>
        <c:axId val="75280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91317"/>
        <c:crosses val="autoZero"/>
        <c:auto val="1"/>
        <c:lblAlgn val="ctr"/>
        <c:lblOffset val="100"/>
        <c:noMultiLvlLbl val="0"/>
      </c:catAx>
      <c:valAx>
        <c:axId val="32191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0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50E-D4D5-4330-90A3-09824C61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387-6E0D-443B-81F9-D314A39A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4B2-1F7F-47F5-8DAF-2819A44A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F1D-73AA-4381-A1E2-BA951009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EAA-8239-487A-8BC8-2DC65C85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285-BBE4-4168-BD02-12E6DD4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F9B-7F10-4506-8EA1-7F7BFD85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FE6-EB8F-4898-82A8-9F459A35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4AC-C75D-4D8A-A4CE-C7D5EC6C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CEE-4CEB-4212-AB4D-D6C0B48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FCA-1BB6-49A5-87EE-0B768619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039-F0AE-4A49-B99F-5A68E39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83756-90A0-4D09-85E9-098E331EAB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