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83583"/>
        <c:axId val="34110430"/>
      </c:barChart>
      <c:catAx>
        <c:axId val="34083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10430"/>
        <c:crosses val="autoZero"/>
        <c:auto val="1"/>
        <c:lblAlgn val="ctr"/>
        <c:lblOffset val="100"/>
        <c:noMultiLvlLbl val="0"/>
      </c:catAx>
      <c:valAx>
        <c:axId val="34110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83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A23-068F-4676-82B6-484AE89F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494-1F08-4596-B260-B77B9594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A72-0198-4FA6-B30E-B40A79D8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AAC-4831-429B-8A29-3B55D929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3C9-EFF9-45E5-9A6F-24E9475D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66A-F6C8-40E7-81E4-2DAAFD2B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CC1-A7DE-412D-A97A-64C4466A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143-86C7-49A7-AC4C-5D69F316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D86-2DF0-42B6-9E5D-C24F8D31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833-45B8-499B-B374-9B95DCF9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53D-7C27-41BF-ADBD-4113372C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45E-BBE1-4891-905F-C926637A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5AA1D-F792-4A4C-BE06-11135C4AFA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