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12072"/>
        <c:axId val="38516560"/>
      </c:barChart>
      <c:catAx>
        <c:axId val="48012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16560"/>
        <c:crosses val="autoZero"/>
        <c:auto val="1"/>
        <c:lblAlgn val="ctr"/>
        <c:lblOffset val="100"/>
        <c:noMultiLvlLbl val="0"/>
      </c:catAx>
      <c:valAx>
        <c:axId val="38516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12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45D-DEA3-4B55-B852-98B43CF9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272-3906-41C8-8872-D5B3AFA7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CF4-FB78-4CA5-974B-A48E2373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188-C543-41B8-96C4-9EA8F9DB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023-DB73-4B57-87F4-CD8F5608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44E-1DBA-4FE5-978D-6E5D1922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561-0A65-4E42-AD1F-F7E6466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10C-7ABE-45E0-929A-51A1EA6A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424-DF06-4DD6-895A-DAC5BD28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32B-34A4-47CF-A185-9855E80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74B-3841-4E0E-AE0E-15BDB857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E8F-737F-4373-88C7-CCF5152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871D4-777F-410C-925B-6AA6B87CBE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