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28667"/>
        <c:axId val="32981434"/>
      </c:barChart>
      <c:catAx>
        <c:axId val="57928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1434"/>
        <c:crosses val="autoZero"/>
        <c:auto val="1"/>
        <c:lblAlgn val="ctr"/>
        <c:lblOffset val="100"/>
        <c:noMultiLvlLbl val="0"/>
      </c:catAx>
      <c:valAx>
        <c:axId val="32981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28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964-5708-4017-AC1F-0024A9B9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D64-AC06-4646-B798-8923EC96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D36-7750-46F5-9A61-D86A38A5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6BB-3C0B-49D6-B227-481B9159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3AC-9EFC-42FD-87BF-AF20D17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97D-8BBB-4822-B6E9-E97FDE9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371-44DA-4885-A1DD-1553A1A1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B4E-AB65-46D0-8CBE-DB3520BD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82F-10AE-442A-949A-C93FCA2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87F-8202-40A6-9CE4-7A16E29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060-6E23-4BF1-80E9-BE724BE3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91C-CF21-41A2-9F32-D12019B8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F1449-CA1A-405D-8947-FB0C9F378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