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719355"/>
        <c:axId val="43798502"/>
      </c:barChart>
      <c:catAx>
        <c:axId val="287193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798502"/>
        <c:crosses val="autoZero"/>
        <c:auto val="1"/>
        <c:lblAlgn val="ctr"/>
        <c:lblOffset val="100"/>
        <c:noMultiLvlLbl val="0"/>
      </c:catAx>
      <c:valAx>
        <c:axId val="437985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7193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61B4-4AE7-481F-8B94-6DA86076C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D002-DF3D-4296-A3CA-0A38B979F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D6FE-3EEB-491C-9784-AA14EC784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650A-D881-47F9-8346-0FBB7B36C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7091-8A04-48BF-8F5B-977A4F55F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F1A1-524B-457A-BE4A-EB275B7EE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B4F2-B06D-477C-A45D-D301C627D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80C3-0022-4421-860B-BD1624803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05BF-EFD5-4FB3-9142-6C11A5027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F548-F740-4AF5-8D61-76C2A703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664C-FDC3-4642-B1F3-C0DA8D06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CDA3-1A21-4E05-B565-D3A7CD27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075B71-30F1-4273-92DC-1B929A5B170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