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64903"/>
        <c:axId val="20458743"/>
      </c:barChart>
      <c:catAx>
        <c:axId val="56164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58743"/>
        <c:crosses val="autoZero"/>
        <c:auto val="1"/>
        <c:lblAlgn val="ctr"/>
        <c:lblOffset val="100"/>
        <c:noMultiLvlLbl val="0"/>
      </c:catAx>
      <c:valAx>
        <c:axId val="20458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64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049-C027-4577-B110-CD201048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CE9-752E-4735-B1CB-C062BCFF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962-6927-4B8F-B755-6833A246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256-DE98-4ED3-91F1-54887A7B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0F4-DFE3-4ECA-BD64-F346383C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7E9-E81D-4DBA-9FFF-7D7FBBD2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AC5-D892-4F6B-88CC-28CC7233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BAC-EDEC-4902-8C94-D9F8614F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238-D1D2-48ED-AEBF-CA4DF7FF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2A8-3DF6-42ED-81AB-140F8F03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8A5-4C00-4714-AECB-A7EE85C3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334-B77D-45F7-8853-C065E8C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79618-CCC3-48D8-A5CF-192D794E49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