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9C11-633D-4059-A4BA-B2339159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17E0-DD44-4800-BC54-045D0D75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FF7F-7C1A-4668-A660-A19AA7D08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F30D-030B-4C1F-BC31-5189FF3F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58B6-EFFD-4EEB-9709-EF1E556E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2FD0-A308-4275-A5EE-469B8C36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4DEF-0E4F-4AE4-BF6D-C371D49D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4FE1-EE54-4085-B6BF-7510BA43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7646-EBE4-45EE-B5FE-D0C94BE6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C4DF-80DA-4398-860E-53D45AE7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B25C-A9F3-4F63-A3D1-2D0902A5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6439-AD19-4C12-B85B-7378EA00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4CB9-6D05-4884-AE47-F391EA123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crus</cp:lastModifiedBy>
  <dcterms:modified xsi:type="dcterms:W3CDTF">2006-02-15T18:39:04Z</dcterms:modified>
  <cp:revision>5</cp:revision>
  <dc:subject/>
  <dc:title>Слайд 1</dc:title>
</cp:coreProperties>
</file>