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9271-FB89-40CD-9B0C-313BD11D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DC86-B14C-4234-B447-2A31426E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9F0-78DD-4AC2-82C0-0BD5D41F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0E8D-EAFC-4930-A08F-F39F8FE3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6EA-9CF0-4459-9B7E-0F5A2D2F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C5D4-8428-4982-A544-27990A3D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6912-B9F2-4969-91FD-67CD62DE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3E68-7889-4A7D-9A22-797E7346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E7E-B221-4472-8C5F-B5A4F183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B3E6-8C8A-4E84-8BF5-5F9F5E97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E315-AD3C-4C6D-BDAC-AF1C3D23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FBE-3844-40EC-B829-4CA95B1C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FFC83FC-0C70-4391-89F6-73F220D1B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606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7440" y="333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9999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8:25:05Z</dcterms:created>
  <dc:creator>Alexey Zhilin</dc:creator>
  <dc:description/>
  <dc:language>en-US</dc:language>
  <cp:lastModifiedBy>Alexey Zhilin</cp:lastModifiedBy>
  <dcterms:modified xsi:type="dcterms:W3CDTF">2004-07-21T14:36:58Z</dcterms:modified>
  <cp:revision>66</cp:revision>
  <dc:subject/>
  <dc:title>Header of the slide</dc:title>
</cp:coreProperties>
</file>