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0A03B472-C0D2-44F0-8405-71B93E6A1FAE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98108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934320" cy="1066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tched01” Title Sli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31T12:58:41Z</dcterms:modified>
  <cp:revision>29</cp:revision>
  <dc:subject/>
  <dc:title>FREE Sample Awesome PowerPoint Background Template</dc:title>
</cp:coreProperties>
</file>