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32.png" ContentType="image/png"/>
  <Override PartName="/ppt/media/image22.jpeg" ContentType="image/jpeg"/>
  <Override PartName="/ppt/media/image39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31.jpeg" ContentType="image/jpeg"/>
  <Override PartName="/ppt/media/image35.png" ContentType="image/png"/>
  <Override PartName="/ppt/media/image5.jpeg" ContentType="image/jpeg"/>
  <Override PartName="/ppt/media/image4.png" ContentType="image/png"/>
  <Override PartName="/ppt/media/image12.jpeg" ContentType="image/jpeg"/>
  <Override PartName="/ppt/media/image37.png" ContentType="image/png"/>
  <Override PartName="/ppt/media/image34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40.png" ContentType="image/png"/>
  <Override PartName="/ppt/media/image48.png" ContentType="image/png"/>
  <Override PartName="/ppt/media/image9.jpeg" ContentType="image/jpeg"/>
  <Override PartName="/ppt/media/image11.jpeg" ContentType="image/jpeg"/>
  <Override PartName="/ppt/media/image33.png" ContentType="image/png"/>
  <Override PartName="/ppt/media/image45.png" ContentType="image/png"/>
  <Override PartName="/ppt/media/image6.jpeg" ContentType="image/jpeg"/>
  <Override PartName="/ppt/media/image27.jpeg" ContentType="image/jpeg"/>
  <Override PartName="/ppt/media/image46.jpeg" ContentType="image/jpeg"/>
  <Override PartName="/ppt/media/image30.jpeg" ContentType="image/jpeg"/>
  <Override PartName="/ppt/media/image43.png" ContentType="image/png"/>
  <Override PartName="/ppt/media/image47.jpeg" ContentType="image/jpeg"/>
  <Override PartName="/ppt/media/image10.jpeg" ContentType="image/jpeg"/>
  <Override PartName="/ppt/media/image38.png" ContentType="image/png"/>
  <Override PartName="/ppt/media/image8.jpeg" ContentType="image/jpeg"/>
  <Override PartName="/ppt/media/image29.jpeg" ContentType="image/jpeg"/>
  <Override PartName="/ppt/media/image26.jpeg" ContentType="image/jpeg"/>
  <Override PartName="/ppt/media/image42.png" ContentType="image/png"/>
  <Override PartName="/ppt/media/image44.png" ContentType="image/pn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F212-E9D7-428C-B1E8-16F833375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3EB3-0B25-44D0-AD5E-289895E24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C310-ED3B-453E-AC3F-CCF255D28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0459-B3A8-4C5F-90E1-B43908C0B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53CE-B230-4779-91D8-CE014C4FC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E440-2642-4AB7-B053-D2A39BD49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C22C-52FE-4144-8070-54C79FBED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9EC4-732F-4C36-AA51-FD948F7E8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8479-D435-4860-A343-CD2AC51DB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5F2A-DB99-4D5D-B1CC-3101B6DA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758A-12D5-4756-8D5D-CBF4BB7E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B89F-203F-41FC-A0C5-30D5AB74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469611-8FA8-4D16-8BE3-E1775F7BEF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92000" y="39528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 Narrow"/>
              </a:rPr>
              <a:t>*Série Dark’n’Luke*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10920" y="1763280"/>
            <a:ext cx="705636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ersion alchimie 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24000" y="2246400"/>
            <a:ext cx="8856720" cy="53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539640"/>
            <a:ext cx="10080720" cy="58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079640" y="0"/>
            <a:ext cx="8353440" cy="740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8908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79640" y="276120"/>
            <a:ext cx="8137440" cy="709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16000" y="324000"/>
            <a:ext cx="9864720" cy="67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49120" y="973080"/>
            <a:ext cx="9579240" cy="574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9836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036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416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00160" y="900000"/>
            <a:ext cx="9821880" cy="589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9360" y="1079640"/>
            <a:ext cx="1009620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836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539640"/>
            <a:ext cx="1008072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6344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81120" y="138240"/>
            <a:ext cx="8859600" cy="7416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47640" y="34920"/>
            <a:ext cx="8859960" cy="74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49120" y="1055520"/>
            <a:ext cx="9579240" cy="558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16000" y="74520"/>
            <a:ext cx="9504360" cy="74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4040" y="1055520"/>
            <a:ext cx="9579240" cy="558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miqueau blaise</cp:lastModifiedBy>
  <dcterms:modified xsi:type="dcterms:W3CDTF">2006-10-22T17:11:57Z</dcterms:modified>
  <cp:revision>4</cp:revision>
  <dc:subject/>
  <dc:title>Diapositive 1</dc:title>
</cp:coreProperties>
</file>