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2A79-41EC-4BD9-9086-F0E0F308145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8EFB-2E17-4723-B603-04C3BE8C5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3904-6199-4EB0-85E8-08794B40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46D6-8358-4E34-9FB8-E2B807636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12F6-719C-4970-9FF3-987C36DCD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3857-63AA-4A78-8F66-B2282F87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D58C-BF1E-4AD1-B0BB-A598FD50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9942-E652-4776-8A01-53D3266C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B473-4418-4EAA-B295-CB5614AB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263C-1717-4F6D-A9BE-558C36D3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6085-C0F6-4CB7-BBB3-82BB9DA9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13BE-163C-48A0-9DC4-110DA737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C17A-6888-42DF-B852-C693AC15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9AF9-BDEB-40AA-85BA-9B7A2A47C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77720" y="571680"/>
          <a:ext cx="8190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571680"/>
                    <a:ext cx="8190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68360" y="576360"/>
          <a:ext cx="8209080" cy="57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6360"/>
                    <a:ext cx="8209080" cy="57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14:58:50Z</dcterms:created>
  <dc:creator>Ing. Industrial</dc:creator>
  <dc:description/>
  <dc:language>en-US</dc:language>
  <cp:lastModifiedBy>Ing. Industrial</cp:lastModifiedBy>
  <dcterms:modified xsi:type="dcterms:W3CDTF">2003-12-01T15:37:20Z</dcterms:modified>
  <cp:revision>2</cp:revision>
  <dc:subject/>
  <dc:title>Presentación de PowerPoint</dc:title>
</cp:coreProperties>
</file>