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20750"/>
        <c:axId val="14344682"/>
      </c:barChart>
      <c:catAx>
        <c:axId val="77820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44682"/>
        <c:crosses val="autoZero"/>
        <c:auto val="1"/>
        <c:lblAlgn val="ctr"/>
        <c:lblOffset val="100"/>
        <c:noMultiLvlLbl val="0"/>
      </c:catAx>
      <c:valAx>
        <c:axId val="14344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20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8BA-C2C8-4F0B-8AF1-85D0462C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88E-EB7D-41E3-BCE4-40DC7FC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7E2-5D03-4C31-A125-E9CE1503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918-CD5D-48C7-B7B1-BD837E0A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683-3980-4397-B5A9-5CE49616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24D-9855-4318-8C6F-F1877FBB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968-BC40-4029-904F-DE5A940F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B08-02D7-4EB4-9775-B59312D7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39E-6530-459C-A187-C1849EC5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06A-DE60-4507-B949-17789ED2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6A8-6A49-4F98-9C00-03E6C904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E50-1EDC-49AB-941B-8C8D5EF4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C56CB-170A-4825-94BC-BB2E89A968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