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91446"/>
        <c:axId val="16445801"/>
      </c:barChart>
      <c:catAx>
        <c:axId val="97891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45801"/>
        <c:crosses val="autoZero"/>
        <c:auto val="1"/>
        <c:lblAlgn val="ctr"/>
        <c:lblOffset val="100"/>
        <c:noMultiLvlLbl val="0"/>
      </c:catAx>
      <c:valAx>
        <c:axId val="16445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91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10C-FEDC-4465-9DA5-CF67D49F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610-CC41-45CE-8C6D-0658C48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E55-42ED-42E4-80D3-B81E91FD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B75-E370-4107-B11A-0208330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0DE-8C41-4677-B13D-63B839B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D26-F794-43C5-A463-AAF34C0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67A-8CFA-4D72-A87A-D3CB1143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C9B-C187-4013-93DE-F94AB151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BED-C6AB-41C7-952D-15CCAC2A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BC2-5E18-4CD4-AB53-99DDCCF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7F1-5591-446C-957A-C91E37C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07A-37BC-428C-A0A4-52CE5EB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8864D-295D-4348-A2D9-ECBC35545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