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97473"/>
        <c:axId val="85064932"/>
      </c:barChart>
      <c:catAx>
        <c:axId val="93997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4932"/>
        <c:crosses val="autoZero"/>
        <c:auto val="1"/>
        <c:lblAlgn val="ctr"/>
        <c:lblOffset val="100"/>
        <c:noMultiLvlLbl val="0"/>
      </c:catAx>
      <c:valAx>
        <c:axId val="85064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97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F64-C0EE-4375-B0A0-2E7CC892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569-A130-489A-9CC6-4D93BBA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2F7-B150-45DC-9064-8C8CF26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DC7-4E76-42D9-82B6-C30BED1D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708-E782-4786-8F9B-420AA41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E6A-6950-4B8E-A027-04424B34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A8D-B63B-4183-B726-3CDFC3B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7F7-E724-4618-848C-3066E2E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D79-6DFA-4E96-8EC9-0315DF9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72C-81DB-4EF4-97BA-1EEEFAA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AE3-EE04-47C3-A82C-4572217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2C9-38CE-4DC4-AFE9-E5A7ABA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CC04C-1EE5-42F6-8C5C-1C40958670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