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93147"/>
        <c:axId val="55742158"/>
      </c:barChart>
      <c:catAx>
        <c:axId val="47793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42158"/>
        <c:crosses val="autoZero"/>
        <c:auto val="1"/>
        <c:lblAlgn val="ctr"/>
        <c:lblOffset val="100"/>
        <c:noMultiLvlLbl val="0"/>
      </c:catAx>
      <c:valAx>
        <c:axId val="55742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93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5BE-D777-4D63-8F95-CE57BB35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54A-3CEE-41B5-9380-00645BFC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8F7-8B0C-4AB7-94F6-60141165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EA6-8988-49FA-A7B0-F4427CD6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849-7F1F-471C-93A5-8D4C9834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E13-8A71-4C8D-94BA-C670C65F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E77-3245-45D9-9955-3D91027E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AB7-6C21-4519-90FA-20D15079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4D9-D0BB-489B-8898-BAD0F11A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2D3-2C35-490D-9D5B-E366F278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29B-61A7-4828-84D5-5FD3147D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F24-99FD-4218-B879-26857E78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6E39F-9C73-4020-BC5D-01B349FF90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