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06818"/>
        <c:axId val="73159887"/>
      </c:barChart>
      <c:catAx>
        <c:axId val="72068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59887"/>
        <c:crosses val="autoZero"/>
        <c:auto val="1"/>
        <c:lblAlgn val="ctr"/>
        <c:lblOffset val="100"/>
        <c:noMultiLvlLbl val="0"/>
      </c:catAx>
      <c:valAx>
        <c:axId val="731598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68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692F-BEA1-44F4-ABFA-10A65368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B72F-B712-4CFE-B363-D057299C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124B-3912-4BCD-9A9C-03B9FF0B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DFD5-13C1-47E1-936F-F3D7554E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0FFA-2340-4FDF-9F91-1D548C22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946D-C7B5-4E1B-AF7D-322D7131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C7A2-6D0B-410D-930F-DE890808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B6E-10BC-4AAA-99D1-7A7E2193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31A7-4BE7-4FEA-A94D-60429177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1C6F-63D2-4575-9B28-D7944782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42D9-9412-449F-B567-7048E829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A017-3F70-4B91-A3A2-43B1CA67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F0E84-FD6F-46CB-B4B7-B36F1ED61E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