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443110"/>
        <c:axId val="58571200"/>
      </c:barChart>
      <c:catAx>
        <c:axId val="564431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71200"/>
        <c:crosses val="autoZero"/>
        <c:auto val="1"/>
        <c:lblAlgn val="ctr"/>
        <c:lblOffset val="100"/>
        <c:noMultiLvlLbl val="0"/>
      </c:catAx>
      <c:valAx>
        <c:axId val="585712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431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31C0-6200-4E56-A8BD-6DAABC01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4672-8030-4608-A651-C54653AF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3F3E-46BD-4207-B433-4464616B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663D-95EC-481F-8BE0-65FEB01A1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C216-B130-4EFD-A6AA-1908AB0E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F9A8-1F5E-40C6-8884-918BD039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54D9-0E4E-45F4-ADFA-4A686CB6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8121-CD44-48F8-AECF-DB1050D3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9DE7-475C-402A-AEDD-78D0F0A4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6BD2-CF95-44A0-96AE-9FB80385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4BDA-3AD4-4022-9D6D-50DE0449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4FF4-6105-4C21-BFED-4489188F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804D6-2492-4232-90EB-8272BF119F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