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78048"/>
        <c:axId val="96843006"/>
      </c:barChart>
      <c:catAx>
        <c:axId val="680780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43006"/>
        <c:crosses val="autoZero"/>
        <c:auto val="1"/>
        <c:lblAlgn val="ctr"/>
        <c:lblOffset val="100"/>
        <c:noMultiLvlLbl val="0"/>
      </c:catAx>
      <c:valAx>
        <c:axId val="968430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780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C63E-A02A-4346-AD0A-7074D3ACD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7DCA-DBE3-496F-847E-2F031696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7F8-127E-4037-BAB6-93D60212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7D5-CDDA-49C9-AD1B-9FFA2F18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EA50-5F1C-491F-9DD6-3CBAB3E7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9A6-C789-412B-97C4-D54481CA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9B55-5621-4AC0-A327-042E3926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A414-F70B-4BD3-84CB-B9F50272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02B0-86A6-405C-9734-C483994D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BAB-7C93-42E4-B892-DB583ED0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4DA-5309-4F9C-BB06-50CA0D41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0B1C-ABF1-4669-88EB-D2D1A7FF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5FB03-F540-45FE-9F96-5CEF6394FE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