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75518"/>
        <c:axId val="12622667"/>
      </c:barChart>
      <c:catAx>
        <c:axId val="17375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22667"/>
        <c:crosses val="autoZero"/>
        <c:auto val="1"/>
        <c:lblAlgn val="ctr"/>
        <c:lblOffset val="100"/>
        <c:noMultiLvlLbl val="0"/>
      </c:catAx>
      <c:valAx>
        <c:axId val="12622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75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430-CDB2-4577-8952-DD7993C8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89B-403A-4030-9E14-582F3E1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8C3-6015-417B-969E-1ADC9DEE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2FC-639A-47A6-BDA5-BB9ECE3B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E8D0-0089-4604-8E8C-4CA8F65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406-06CA-4ACD-B462-CE905DF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433-B0C6-425F-A797-79E98344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1AC-1C73-410F-913E-2D4DB54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CD7-55A5-4C38-9432-7AF5906F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462-CC9F-4E97-864B-5F4CDDFE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729-0861-4B10-9516-22211D5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DE86-7C95-4625-AD7C-265A7BA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59369-B614-47B8-AEAC-4C8376D618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