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36265"/>
        <c:axId val="72979524"/>
      </c:barChart>
      <c:catAx>
        <c:axId val="89936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79524"/>
        <c:crosses val="autoZero"/>
        <c:auto val="1"/>
        <c:lblAlgn val="ctr"/>
        <c:lblOffset val="100"/>
        <c:noMultiLvlLbl val="0"/>
      </c:catAx>
      <c:valAx>
        <c:axId val="72979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36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5CE-C04C-4131-A188-0CBFEA00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CCC-A0A4-47C1-B097-10CD05DB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A0F-3B82-4AA4-B1AD-A52AC60B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276-B80E-4096-BDBA-2BB680A5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3D1-9976-49B0-9FB9-F5799EDD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747-ED4D-4AD0-AD6F-E5E2946B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6FD-A18A-44DE-8C5A-FB7BB026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9ED-C352-4A39-88E8-B74850AD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239-F09C-48B5-A1B5-C8784458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2A8-5074-41FE-B480-A3CD5F61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083-FE18-40FC-AC76-AD406075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E37-28B0-4CCE-B11F-89F548C4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08F34-AE23-40CB-AD87-D3919DD867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