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AD70391-A39A-4A7D-87F1-C34B7149427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A3F387D-E9AC-4F15-999C-A569B826348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92CB75B-887A-435D-805E-2D7A7DBE296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2B24D96-63DF-4006-A796-72B98088DFB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3A114F1-E424-4973-8218-B2678216296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865F07A-630E-4BB1-A588-1CC389A4837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371706A-53CC-4B5E-8F45-EB25EDAA310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C9AB7E3-2B5F-450F-832F-F501099DB1C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634EAB4-3764-41CF-902A-366E86A5F45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7C3C82D-77EC-4457-9603-BFD3F0E2AE6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2DA021C-13D6-42EA-9423-437311480A5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92CC536-77E7-4A2D-9F0A-D4D98FF886F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76BFC4B-D2FB-4CBD-A169-4EFC8AA2ED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D6D977E-EF85-4F3D-AC9D-9DFE9282BD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24A4DD1-ECED-4A5A-AF6B-FF8F8208FB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B1E6370-A953-47CC-9E4B-CEB80D267A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B9DF7BE-7695-4041-B24B-5FB5FC493D7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C766216-A399-4C2F-80DE-88E82E6740A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667BF31-358D-4D03-89AC-82157B6C56B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E8AD8FC-6168-4110-A909-D4372A547CB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E8F0D26-B1FF-4F4E-89BB-9A8C38D93C2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607AA9B-6C1D-4975-8587-2BC70D40936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DEBA87E-17A6-4876-A926-554593EF859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B58BEA7-812C-4B19-BA02-EEF06FE4A7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9EAFF58-E5ED-4B3A-84C5-A7F4717F00C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4E78979-7BA4-42F1-A329-3223922F2EC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EB8D658-ED50-4BFF-AA97-9879ABAF75D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9829C71-E05C-4C21-8816-8D10C13D58C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214624A-3BDB-422E-8729-4A3A4DA749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7721623-60B3-4334-B0D7-42F6CCF13A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A5DBA5-B440-44BD-BA02-EDA0A66F3A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08CD6D9-98C4-4F7E-B851-73550E972C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41CF6E-6542-4950-8EC0-843C6A586F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308865-0BBE-40BD-A0E1-C5D1C4EE78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B014DB-3E61-4AF5-A6B7-320188B095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B159B2-07E3-4024-9D25-3D4BA39CB6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0F85B-5C95-4529-8D6D-948604930BCF}"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0A2BC-801C-4D6B-8B13-2CF35D3B153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D15D583-9413-41AC-8475-EF2D71F41771}"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1E11152-5846-4179-9C64-6B097F2A213C}"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BBAC1E2-8EDD-4AEA-A889-5453C61530F4}"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FE1DB33-62ED-48C9-B6EF-3DD23CFCAAE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1879F4D-60CC-4075-AA0F-512C6DB9538F}"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6608853-C2CA-4B11-AFF3-A1D3BB563410}"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C755E1E-E56F-40D8-9594-8AA097E84F6B}"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49DCA8C-3A36-44EC-B8A8-BF2BED072352}"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C3AD740-CA5A-43C7-BCDD-89AF6E3603FD}"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32BE953-45CB-4197-8A22-FB9C141554F9}"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63FDBCF-4926-4D5E-9CF0-4CA25008BDC6}"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2F628569-72D1-4383-B792-7538D348FB69}"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654E004-0CDD-4B05-8D66-87F60156BF43}"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A3629D1-F7F4-4B7F-84A8-99952883EF4B}"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A49ABEA-7B82-4779-B3C3-95A03D7B3EB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89B8A09-A0B5-4E68-A545-EAF0DD696AFF}"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D649649-3AA5-4365-9942-4FEEE5EF4F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B40E095-30E0-4B78-B17C-CDC3D0338E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DA72539-ABE3-4C7E-9084-CBCD3F9C6B2E}"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359D72E-F697-4270-B419-E8F9AC5620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9EBFFDC-CBAB-435E-A8C2-F79141847D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E50FAC-8ED0-4AB6-980B-595A391BBABC}"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8234C52-1C2B-4E92-80FF-82C5E4E864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7319AC9-93C5-4166-8265-3CAD16BB78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94B0C52-F02A-414A-BCC3-BD24276CAA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0F03228-1913-4C70-A816-038922F179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F36A435-DDC0-4EF6-A1F9-389F46454F6E}"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25D3A92-2B60-4EED-8825-51D134A638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62AB28D-2B83-4B95-9B5A-132BBCCE95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E5F6A98-D546-454A-B331-AE0E7969F0B3}"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9ABFB7F-F2AA-414B-A7E9-6C33C2600E6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A3A8282-9004-4726-9E84-76DC7FD7B3A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670A87A-7A39-4DA4-8C8B-BBDA99D9D6D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4F84027-23AF-453A-A633-EC342A88DFE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4B7B0A8-4946-4CBC-B128-712CCFD6510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AC80269-F018-47BD-8198-47874D33139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8F9170D-9C3A-465C-B105-CDADD27958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CD20097-9848-4CA8-81BC-15285B529C4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7E380DB-4038-4628-8D5E-2B5E28C315B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013B77D-BFC2-42E7-B312-F20A62EB604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44925CE-BB7B-422D-92CC-FDA3DCD6956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A35E85B-2E4B-4410-85AE-CB107886BF14}"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C0318B5-CD62-4E56-8ECE-3B932CFFB59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C01D008-DCEC-4568-90AC-3B696632DDF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23908B3-E206-4922-B1B2-6CDD189C220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8B92ED7-E1C6-4ADC-94C2-ADED4AD75C3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E4A72D6-AA66-4F5B-A0F0-F02DE8318B4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F132212-652B-4409-BA0C-81A93A0B67F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79A6D7D-8567-4742-9738-2BB5AF11357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AE31288-E7D1-4B8B-ABE2-62CAC570E49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E0C8DE8-E7C0-4ED7-89CF-D3010726FB52}"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CA40AA-436B-4F5E-8623-FB547A75A59B}"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8BAADF9-5D00-4B17-AFCC-407C2D3FD9B6}"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E2386EE-BB3F-4AA3-980D-729505FECF7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A7DC541-68EF-4C29-8651-D9126183751B}"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43E94EB-5C75-46DF-AEFC-92D8A73D0D08}"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2189CB7-B208-4F11-91BE-8729B372FD40}"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EA3ECD2-3F21-47CB-8E04-2E0A75E22156}"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C3B641D-F26D-42F6-91E9-7C180F148374}"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246775-385C-486B-B2F7-DFB8AC07CAC2}"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87FC204-2114-442B-99E3-459F44F453E3}"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3BDA453-6344-4927-AC88-761ADB71DEA7}"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2895AF3-DBDD-4103-AD1F-0524F0156CA6}"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6562ED3-C2D8-4C67-B75A-24BDAAB12DFF}"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EAAC3DF-26BC-4121-A7D5-B3D09D110918}"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6E86CE1-4E44-4EE0-BAF6-50745DFB2539}"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B23602D-88AD-4596-9994-AAB34022D690}"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2425AB0-808C-4EA1-B962-DB5C265D9E7C}"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6242843-13BE-4ABD-B094-7752D8B79172}"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3A33E7D-B035-4803-B423-31F6076C45D1}"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B99DDE-47E3-4CEB-ACE3-F24371FC4577}"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114B58D-FF03-419F-83F0-8BB92D8D1970}"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948BE36-8990-47D0-AA2A-442ADFC9E06F}"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4173201-A05C-4BE4-AA69-DD818CFB8AF5}"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A644D72-7F2A-4F48-A2D3-4CF4BB62113C}"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7D969E3-DB33-42C4-97E5-CF290E568BC9}"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3A28608-0619-4E0F-96CF-5A826863B49F}"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18CA3CE-7A86-43C1-B7A4-F69989BCBAA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3E0DB8E-8F6F-44D3-8D27-C7AF5D4E31AB}"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2F47BC8-5EEA-4D61-ADE4-E73DA278C12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303643E-0244-42D7-B1D8-975769D59CAE}"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8F1AB25-8B28-44D0-83DF-7976633747B6}"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104FBE9-0AB8-4BCA-88E2-51EFC2DD2D63}"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048BB24-BE76-4A89-B13A-7BC399A22B3F}"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2C35682-0A60-4B8E-9EC1-1CB79EDC084C}"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092FF39-09B9-4C27-B1BF-6BCDC4FBB484}"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8F38BCC-B5F5-4EB3-A198-7AC06F9C3853}"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506A487-8019-4A8F-9515-350CCAE61AF8}"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200C76F-215E-42D5-A473-CA8A8F991C96}"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9648C4A-726C-4BB5-8AF5-C5F4FBDA167E}"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F66A2BF-FECF-4525-B2DB-DD2EA56B96F4}"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22C322-3E92-41AA-B072-784C5F1D6C75}"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7B6F093-CDA9-48A0-8043-7E5F96585AC3}"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9DBD6D9-0573-4BC7-A059-F30144E3B006}"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E7C3C85-24FC-4480-8BE6-ED94D1D83AA0}"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2E180EF-FEC2-4B88-8927-6A8DE145337B}"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3859334-72FC-454E-B800-D1C69E6FF724}"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AB1B8977-B87C-4C08-AD2D-33DD46B63D2B}"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4171183-3DBB-417D-8265-47385AC4351B}"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CD93199-4A77-4225-8BB9-F56D309FA63A}"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7555768-8DB7-4A88-BFB6-3A5C932B6945}"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00DF3A7-B3C1-4A26-906E-DD9B64FAF433}"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5B1396C-F4FE-4DDC-BE61-FACA3B72C0DE}"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0FEDB6A-3B0F-48E9-A92D-21709F2BCA16}"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142C1EA-E1A3-4079-9791-BA3FE9FD8787}"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947F761-9E4D-4CA0-A32E-DEFC9C3268F1}"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02AE3B2-F334-48E7-8B0C-AAB42F3FA030}"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3BFA831-48C4-4BB7-A338-6794A780F33E}"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473A886-3AED-49EB-BE75-1778059E3578}"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6BA19E7-127E-4A8D-AC7A-141FFE24F2FF}"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9FE211C-D87C-4529-AD31-266489AAC17B}"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