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48D5-0562-4CCB-B8EA-42D7DE9A3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4CEA-7756-4458-BEBE-4B981B558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A4AD-7C2C-41DB-958A-9679FDF6F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C1A6-B647-483C-B069-1AEA96200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3F6CB-1AF9-4820-856C-5012F98B4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860F8-E855-4D81-8B0B-6879A79A4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758C4-DE03-4D6E-A9E9-DDA5ADC6C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A5B9A-D0E8-408F-B17C-517FBECB8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33097-1533-49F0-B5C4-9C960334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42FCE-0F12-4278-B4AD-BA632024F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B3165-091F-493A-A46A-538BA2E3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2C3D-215F-4FE3-9F64-436561463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F312D-3CEB-4DCB-A3C9-C8B8B3A6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6795C-3AEA-42DF-807A-5731A4D5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EE3FE-036B-456E-AF8C-2BEFABFED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184C1-D6BB-4337-9302-5519742D3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07AD5-1CF8-4CFE-B911-2F28FD670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202B-31F9-495F-A27B-6DBE82CC5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CFF3-16EA-4851-9C21-8B3C1B266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D97A-0018-402A-B2E5-C2D3F59F5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E7B8-AA43-4545-8A6D-F8829107E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0DB4-70FF-4049-BFD4-1B15ECE8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7A89-D0B2-494F-838E-705A1575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9B39-CA74-4408-8D70-FDCEC11A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F4AE5-CC25-429F-BF90-D1EE61019DC1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22B52-A30D-4F0E-B8E6-B53A98812EEE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4c2b"/>
                </a:solidFill>
                <a:latin typeface="Times New Roman"/>
              </a:rPr>
              <a:t>Least Square Fitting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Times New Roman"/>
              </a:rPr>
              <a:t>finding the best fitting curve to a given set of points</a:t>
            </a:r>
            <a:r>
              <a:rPr b="0" lang="de-DE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763640" y="3429000"/>
            <a:ext cx="492444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4c2b"/>
                </a:solidFill>
                <a:latin typeface="Times New Roman"/>
              </a:rPr>
              <a:t>Least Square Fitting (Linear)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755640" y="1773360"/>
                <a:ext cx="20876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684360" y="2421000"/>
                <a:ext cx="45352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a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725400" y="3244680"/>
                <a:ext cx="438156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755640" y="4005360"/>
                <a:ext cx="468000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a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700200" y="4797360"/>
                <a:ext cx="227484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4c2b"/>
                </a:solidFill>
                <a:latin typeface="Times New Roman"/>
              </a:rPr>
              <a:t>Least Square Fitting (3 Dimensions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90400" y="1773360"/>
                <a:ext cx="18288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11280" y="2421000"/>
                <a:ext cx="6172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a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c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611280" y="3174840"/>
                <a:ext cx="570204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684360" y="3933720"/>
                <a:ext cx="741672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33520" y="4797360"/>
                <a:ext cx="31017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4c2b"/>
                </a:solidFill>
                <a:latin typeface="Times New Roman"/>
              </a:rPr>
              <a:t>Least Square Fitting (4 Dimensions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116000" y="4043520"/>
                <a:ext cx="4392720" cy="13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187280" y="2254320"/>
                <a:ext cx="439272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9T07:36:10Z</dcterms:created>
  <dc:creator>epsi</dc:creator>
  <dc:description/>
  <dc:language>en-US</dc:language>
  <cp:lastModifiedBy>Customer</cp:lastModifiedBy>
  <dcterms:modified xsi:type="dcterms:W3CDTF">2005-05-07T18:16:01Z</dcterms:modified>
  <cp:revision>13</cp:revision>
  <dc:subject/>
  <dc:title>Trend Cyclic</dc:title>
</cp:coreProperties>
</file>