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50A9F-DDDD-4AB0-9F2B-EEF72BAE0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C7B38-26A6-4B38-8BB7-06C3C9BCB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DDEEA-52C8-4AF1-9A46-0E75B74D2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7B09B-C54C-4649-B0E3-853801B4E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5A465-5BAE-456C-B87C-5B9F5B7A2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3D3EF-0815-4CDA-A11A-83732BACD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1F07D-4B36-4F6C-AC14-A75FB48EA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21084-593F-4885-B518-84F7642E5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7C978-BF4F-4242-A9B1-E71569DE9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2A796-9906-4205-83A3-5D342081E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4F5BF-5B61-4CB1-AB1B-1EEAA138D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F933A-25BF-487E-A127-B44CFF762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F4F89-6F9B-4138-AACF-A54ADEE9F9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52280"/>
            <a:ext cx="1981440" cy="2438640"/>
            <a:chOff x="609480" y="152280"/>
            <a:chExt cx="1981440" cy="2438640"/>
          </a:xfrm>
        </p:grpSpPr>
        <p:sp>
          <p:nvSpPr>
            <p:cNvPr id="42" name=""/>
            <p:cNvSpPr/>
            <p:nvPr/>
          </p:nvSpPr>
          <p:spPr>
            <a:xfrm>
              <a:off x="1219320" y="1522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2388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28800" y="10666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13372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1932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838080" y="7621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1447560" y="762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762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75212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205704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581280" y="304920"/>
            <a:ext cx="1066680" cy="1523520"/>
            <a:chOff x="3581280" y="304920"/>
            <a:chExt cx="1066680" cy="1523520"/>
          </a:xfrm>
        </p:grpSpPr>
        <p:sp>
          <p:nvSpPr>
            <p:cNvPr id="54" name=""/>
            <p:cNvSpPr/>
            <p:nvPr/>
          </p:nvSpPr>
          <p:spPr>
            <a:xfrm>
              <a:off x="4190760" y="304920"/>
              <a:ext cx="45720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9076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809520" y="914400"/>
              <a:ext cx="6094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19360" y="9144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505320" y="228600"/>
            <a:ext cx="1675800" cy="2438280"/>
            <a:chOff x="3505320" y="228600"/>
            <a:chExt cx="1675800" cy="2438280"/>
          </a:xfrm>
        </p:grpSpPr>
        <p:sp>
          <p:nvSpPr>
            <p:cNvPr id="60" name=""/>
            <p:cNvSpPr/>
            <p:nvPr/>
          </p:nvSpPr>
          <p:spPr>
            <a:xfrm>
              <a:off x="4114800" y="2286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9360" y="20574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24280" y="11430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1480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0532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733200" y="8380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343400" y="837720"/>
              <a:ext cx="609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43400" y="838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647960" y="17524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429000" y="152280"/>
            <a:ext cx="1981080" cy="2438280"/>
            <a:chOff x="3429000" y="152280"/>
            <a:chExt cx="1981080" cy="2438280"/>
          </a:xfrm>
        </p:grpSpPr>
        <p:sp>
          <p:nvSpPr>
            <p:cNvPr id="70" name=""/>
            <p:cNvSpPr/>
            <p:nvPr/>
          </p:nvSpPr>
          <p:spPr>
            <a:xfrm>
              <a:off x="4038480" y="1522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340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48320" y="10666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5288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29000" y="10666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657240" y="76176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267080" y="76140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571640" y="16761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876920" y="16758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06:22:52Z</dcterms:created>
  <dc:creator>C. Michael (Mike) Pilato</dc:creator>
  <dc:description/>
  <dc:language>en-US</dc:language>
  <cp:lastModifiedBy>C. Michael (Mike) Pilato</cp:lastModifiedBy>
  <dcterms:modified xsi:type="dcterms:W3CDTF">2002-10-19T06:53:19Z</dcterms:modified>
  <cp:revision>1</cp:revision>
  <dc:subject/>
  <dc:title>No Slide Title</dc:title>
</cp:coreProperties>
</file>