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A547-D1C5-411C-9EBB-F32A448586A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87BF-B8C0-4A68-8F57-CC50A18918E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5000-6F9E-4814-8D5E-91239CB7D33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46F1-E04F-4A61-AE82-5B65A925D26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97EF-B799-4EA8-93E0-3149BB4D3E5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7B20-E8CC-4F5B-AC93-5A409C22746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480E-AD83-43AA-A331-510602236D4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E64A-0E0D-4640-A9BC-2312A5B25B7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CB5E-4CF4-46EE-B790-2F6371421AA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BDEF-33BD-4A23-8753-D6F9DB22DEC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9F30-DE0D-46BB-82C2-424B7A1E1E9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1140-42A8-428A-A80E-9860EF5553B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F44B-E92D-4248-9833-2E6ADF1E751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5840-09BA-45D9-89F3-9143A9FD3CA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EC8E-D28B-44F9-9436-92FF853E0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ABAE-21C2-4025-B579-E568DF4A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85F4-4A48-4CD4-9E28-559D0D2B6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E231-749E-4C34-B89D-A917B0839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A8F3-537D-40DF-9A70-3F60049D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6FBB-8230-4008-A2DB-4655D228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47F9-56FB-4F52-ACF8-9A252C27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C747-A724-47CC-9470-8BAC0154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2963-9C96-4B28-A682-645EEB93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70DA-7F15-4F9E-88AF-2988EBAC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9562-280C-4E04-B0F8-07ACCEB1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F259-4E20-4063-8B5D-F37BF6D8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995E-6D83-4B49-B531-14876B9C3F21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6:07Z</dcterms:modified>
  <cp:revision>19</cp:revision>
  <dc:subject/>
  <dc:title>Tcl/Tk Mature but Evolving Dynamic Language</dc:title>
</cp:coreProperties>
</file>