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033-14F4-400E-B1B4-A12C453A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108-E7A6-4E8E-BB51-2B82BDD2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139-A55D-449F-AB56-1FD2EE73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57C-E18C-457F-97BD-A694E9F5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CDF9-2E2C-428B-949E-C3274B2E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EF60-B7F8-414F-88B3-DB63F22D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7C9C-72A9-484C-B8A9-7BF91E81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EDDE-C4A7-4BD0-86C4-ED8E0569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5A61-7947-4885-AFBA-1BC8606C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04AC-1F10-4FAE-83A4-CCB949A7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82D6-9FBC-405D-8BDE-C6561361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EFA-86D1-43F8-AFF5-B885F273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0B5A-48E1-43DD-8EAF-91E94F91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D17E-3C25-4C7B-8E5F-62FF613F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449F-DF53-4A8A-A454-787EEC3F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A912-4692-4616-A71D-5671D2C1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E538-A7BE-4D62-974F-5BA89857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78A-8445-4F9D-B386-9A5D0C51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4C5-DA5E-4D78-9124-C71E0106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07E-5470-413E-9E61-CE7599FE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3CD-5A5F-4CDB-9869-B277D6C2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ADE-9387-4495-B1E8-C904BCC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A30-04E2-4FA6-8181-84A92964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91F-F2E3-4382-8FCE-82E3DA71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D597-B488-417B-918B-BD84ED8CF8FF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454D-8AF5-4F95-80D8-A97034528463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ABDF-590F-4D80-AAB6-65345ECFEF5D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6D9A-8C32-469E-93B4-F118034D0B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ev.scriptics.com/" TargetMode="External"/><Relationship Id="rId3" Type="http://schemas.openxmlformats.org/officeDocument/2006/relationships/hyperlink" Target="http://www.isi.edu/nsnam/dist" TargetMode="External"/><Relationship Id="rId4" Type="http://schemas.openxmlformats.org/officeDocument/2006/relationships/hyperlink" Target="http://www.isi.edu/nsnam/dist" TargetMode="External"/><Relationship Id="rId5" Type="http://schemas.openxmlformats.org/officeDocument/2006/relationships/hyperlink" Target="http://www.isi.edu/nsnam/dis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mailto:ns-users@isi.edu" TargetMode="External"/><Relationship Id="rId4" Type="http://schemas.openxmlformats.org/officeDocument/2006/relationships/hyperlink" Target="mailto:ns-users@isi.edu" TargetMode="External"/><Relationship Id="rId5" Type="http://schemas.openxmlformats.org/officeDocument/2006/relationships/hyperlink" Target="mailto:ns-users@isi.edu" TargetMode="External"/><Relationship Id="rId6" Type="http://schemas.openxmlformats.org/officeDocument/2006/relationships/hyperlink" Target="mailto:ns-users@mash.cs.berkeley.edu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-2 Tutorial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obo Yu, Nader Saleh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C/I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haoboy,salehi}@isi.ed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F07B-F910-473C-94FF-E45D74833F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cl (Tool Command Language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ttp://dev.scriptics.com/scrip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OTcl (MIT Object Tcl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~otcl/doc/tutorial.html (in distribut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manu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luded in distribution: ~ns/d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~salehi/ns_doc.ps.g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109-11EC-4A76-A783-28CEB055DD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u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ople tried best to validate ns with regression te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Howeve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 abstraction of the real world is necessary for a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5000"/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 must justify the usage of this simulator based on your research 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03D-60C1-4098-955F-ED46BA1281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orkshop 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pability of the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ign and implem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te examples of its u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try to avoi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ailed research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FCF-6996-47CA-9F28-134CF9CFB8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orkshop Schedu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y 1: OTcl-based simul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undamentals: wired and wireless worl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pporting too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y 2: C++ and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 inter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A66-BC91-4541-A06C-091AC5B7F3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and Sta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rs from approximat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00 institut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0 count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le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iodic releases (currently 2.1b6, Jan 200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ightly snapshots (probably compiles and works, but “unst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ailable from: USC/ISI, UC Berkeley, UK mirr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C8A-CB93-4D35-BDD5-15D3523C175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ality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int-to-point link, L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/multicast 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bile 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 hoc 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cing, visualization, various 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2FB-0EA5-4F27-9F24-81771E7BAACB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ject goals and sta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istory and sta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minar sche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52D-A917-4557-8FC5-98CDDC74F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NT: Virtual InterNet Testb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collaborativ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imulation platfor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vide common reference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mote sha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 suite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ncrease confidence in resul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nded aud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earch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ducat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C54-09A1-46B9-BFA9-215032CED7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-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layer and 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d and wirel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CB1-D610-4B69-BF1A-19CEB2D141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and Sta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umbia NE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CB RE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-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00K lines of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0K lines of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0K lines of test sui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0K lines of docum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9A0-EA18-43F9-AE52-98BF9DAB93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tfo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UNIX and UNIX-like system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eBSD or *BS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n Solar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Symbol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P, SG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ndow 95/98/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me work, some does no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Emulation only for FreeBSD for now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E95-79E7-4F88-B5AA-FF82E2DC2C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ted Researc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78416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serv/diffser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liable multica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gestion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b ca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8E7-83E0-423C-9890-6472D8358C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tal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tting the pie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/TK 8.x (8.0.5 preferred):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dev.scriptics.co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, TclCL, ns-2, nam-1: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://www.isi.edu/nsnam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di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 utili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nsnam/ns/ns-build.htm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-debug, GT-ITM, xgraph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8F3-3372-4624-BB32-11A87FB342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tting Hel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ns-2 build questio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nsnam/ns/ns-build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ns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-users@isi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d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(previously 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ns-users@mash.cs.berkeley.ed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-users-request@isi.ed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scribe ns-users” in b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ve: http://www.isi.edu/nsnam/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B9F-B844-47DF-87A2-B648ACF0E1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7T16:47:47Z</dcterms:modified>
  <cp:revision>643</cp:revision>
  <dc:subject/>
  <dc:title>ns-2 tutorial for IEC'00 workshop</dc:title>
</cp:coreProperties>
</file>