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E62FE7-39DE-4D59-A5DC-37AB8264D9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to use tap agents: incompatible ns/IP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eal network: en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 network: de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implification: we do not show how ARP cache is do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Mb, 10ms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95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line: advertised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line: highes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A3F-4385-45A7-9B3C-1D894FC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E41-5299-4498-A115-CAC355F6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506-C764-48AA-A22B-373C144D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41F-7A64-4F55-A65D-9478FA33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BFAF-0618-4FA3-AFD5-EA506242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CDE6-1658-4656-80F7-DE770798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8B1C-0455-46E5-BD91-CC937622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4B8-D89B-4DAA-9F5B-CDC29FB0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B6B7-3D45-41BE-A048-4324DE2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19FB-06F0-4EF4-BE1F-709A207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B32D-506B-437A-A207-F03B433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148-D479-498F-9591-59CEA025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CCC1-3470-4797-BFEE-7CD9EDC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63DE-A91F-4C5B-B5B4-65CB685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30B3-524F-40E4-902C-C53C070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F12-E866-4366-AD07-EC744089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6D0-3A45-422B-8158-24097D52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C9B-D4A4-4FF4-B304-39A804C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3E2-9423-4631-974B-AE4C0FE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950-02EF-4F83-8AC2-1062A81A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D6C-81E5-475E-BC2F-3CAB88F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3C6-4F8F-49AA-9113-2ECB683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32D-7FC4-4B37-93C6-E2ABD5F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2E5-6C82-49E9-A873-74B9D69D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39A3-DD4A-41FD-9D1D-380C3609DCA3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2EC-7A6C-4043-8D61-E497F390E008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B53-B84B-4866-87B6-BD9E09B143A5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651-98F3-46B4-B8E7-6F739C05D1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C:\research\vint\nam-1.0a9\nam.exe &quot;C:/research/slides/vint/DSDV.nam&quot;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ect.nist.gov/tcl-debu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si.edu/nsnam/ns/ns-topogen.html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 &quot;C:/research/slides/vint/ts26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C74-0311-43A4-B352-1BD70ACD17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5200" y="1730520"/>
            <a:ext cx="8308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Define node movement mo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movement-scenario-fil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traffic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traffic-scenario-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A57-E330-4EF8-886B-17526FBDB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Mov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Movement Gene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dest -n &lt;num_of_nodes&gt; -p pausetime -s &lt;maxspeed&gt; -t &lt;simtime&gt; -x &lt;maxx&gt; -y &lt;maxy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dom 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ode sta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s-2/indep-utils/cmu-scen-gen/setdest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53A-8C37-41E2-B9FE-2D905BD16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ovement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Y_ 199.3733068168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X_ 591.2565600938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Y_ 345.3577317792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X_ 257.04629832315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Y_ 239.43800983126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X_ 83.36441841624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0.000000000000 "$node_(2) setdest 369.463244915743 170.519203111152 3.37178589915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1.000000000000 "$node_(1) setdest 221.826585497093 80.855495003839 14.90925920811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33.000000000000 "$node_(0) setdest 89.663708107313 283.494644426442 19.153832288917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A5F-B1FD-4525-A581-011670E69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Traff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ing traffic pattern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BR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cbrgen.tcl [-type cbf|tcp] [-nn nodes] [-seed seed] [-mc connections] [-rate rat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tcpgen.tcl [-nn nodes] [-seed seed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-2/indep-utils/cmu-scen-gen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661-28D5-46EB-99E6-79FDC289C8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Traffic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udp_(0) [new Agent/UDP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0)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null_(0) [new Agent/Null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2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cbr_(0) [new Application/Traffic/CB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packetSize_ 51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interval_ 4.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random_ 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maxpkts_ 1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attach-agent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connect $udp_(0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127.93667922166023 "$cbr_(0) start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2E5-1036-4602-AACA-EC7DF61FB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5200" y="1730520"/>
            <a:ext cx="83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node initial position in n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0} {$i &lt; 3 } { incr i}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initial_node_position $node($i) 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Tell ns/nam the simulation stop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nam-end-wireless 200.0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halt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Start your simu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CA7-D414-43DB-A790-71EBA42FDD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is energy-a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ode by adding new op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_ node-config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nergyModel Energy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-initialEnergy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0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t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r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1A2-D1F4-4BF0-822D-11379CA8D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nam to visualiz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moving direction and spe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ergy consumption at nodes (color key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9B1-03C0-42AE-8C76-84EFC8E5BE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-wireless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 the end of simulation,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-end-wireless [$ns no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e an exampl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>
            <a:hlinkClick r:id="rId3"/>
          </p:cNvPr>
          <p:cNvSpPr/>
          <p:nvPr/>
        </p:nvSpPr>
        <p:spPr>
          <a:xfrm>
            <a:off x="4643280" y="534816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301"/>
                </a:moveTo>
                <a:lnTo>
                  <a:pt x="17300" y="7301"/>
                </a:lnTo>
                <a:lnTo>
                  <a:pt x="17683" y="7667"/>
                </a:lnTo>
                <a:lnTo>
                  <a:pt x="26892" y="7667"/>
                </a:lnTo>
                <a:lnTo>
                  <a:pt x="27449" y="8224"/>
                </a:lnTo>
                <a:lnTo>
                  <a:pt x="27449" y="8772"/>
                </a:lnTo>
                <a:lnTo>
                  <a:pt x="29294" y="8772"/>
                </a:lnTo>
                <a:lnTo>
                  <a:pt x="29660" y="8224"/>
                </a:lnTo>
                <a:lnTo>
                  <a:pt x="30399" y="8224"/>
                </a:lnTo>
                <a:lnTo>
                  <a:pt x="30399" y="13376"/>
                </a:lnTo>
                <a:lnTo>
                  <a:pt x="29660" y="13376"/>
                </a:lnTo>
                <a:lnTo>
                  <a:pt x="29294" y="12828"/>
                </a:lnTo>
                <a:lnTo>
                  <a:pt x="27449" y="12828"/>
                </a:lnTo>
                <a:lnTo>
                  <a:pt x="27449" y="14107"/>
                </a:lnTo>
                <a:lnTo>
                  <a:pt x="17866" y="14107"/>
                </a:lnTo>
                <a:lnTo>
                  <a:pt x="17866" y="9877"/>
                </a:lnTo>
                <a:lnTo>
                  <a:pt x="17683" y="9877"/>
                </a:lnTo>
                <a:lnTo>
                  <a:pt x="17300" y="10243"/>
                </a:lnTo>
                <a:lnTo>
                  <a:pt x="16386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54E-2D0C-41CD-A402-259C1C0F612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: IEEE 802.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ress Resolution Protocol (AR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 hoc routing protocols: DSDV, DSR,TORA, AOD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 at ne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 ray ground at f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: an omni-directional antenna having unity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CA9-EBBE-4AE9-846E-9EA86120D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F62-FB28-4554-BDF1-0F5A33184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consumption model for sensor 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 of node movement, reachability, and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ation test su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0CB-3F64-451D-976D-0166BA170C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d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 Berke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n Microsystem In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463-47F6-49CD-9E16-8461B1D1C1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Satellite Netwo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ed by Tom Henderson (UC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ported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ostationary satellites: bent-pipe and processing-pay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-Earth-Orbit satell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cl/ex/sat-*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ch in-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707-6275-4ADD-B117-3F45BBC3CA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MobileIP Sup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d by S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a different Node structure than the MobileN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-exists with wired world in 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Mobile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 Agent, Foreign Agent, MobileHost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ex/wired-cum-wireless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C44-9369-43A2-A84A-54B995D22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3AF-2D1A-4D5F-A64C-C3964638F8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ulator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al net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ject received packets into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it packets on to liv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real implementations to controlled conditions in the si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simulations to real-world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Currently only works on FreeBS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AE3-09DB-44C0-B24E-AC3AE4CB0F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429000"/>
            <a:ext cx="1752480" cy="1752480"/>
          </a:xfrm>
          <a:prstGeom prst="octagon">
            <a:avLst>
              <a:gd name="adj" fmla="val 29287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743200"/>
            <a:ext cx="2362320" cy="2590920"/>
          </a:xfrm>
          <a:prstGeom prst="irregularSeal2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480" y="3976560"/>
            <a:ext cx="1828800" cy="12193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3"/>
            <a:endCxn id="290" idx="1"/>
          </p:cNvCxnSpPr>
          <p:nvPr/>
        </p:nvCxnSpPr>
        <p:spPr>
          <a:xfrm>
            <a:off x="5486400" y="4304880"/>
            <a:ext cx="946800" cy="281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92" name=""/>
          <p:cNvCxnSpPr>
            <a:stCxn id="289" idx="3"/>
            <a:endCxn id="288" idx="1"/>
          </p:cNvCxnSpPr>
          <p:nvPr/>
        </p:nvCxnSpPr>
        <p:spPr>
          <a:xfrm>
            <a:off x="3276720" y="3539880"/>
            <a:ext cx="457920" cy="76572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5405400" y="229536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HCP for address/rou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62360" y="3124080"/>
            <a:ext cx="533160" cy="9907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2280" y="18097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 ARP f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2590920"/>
            <a:ext cx="76320" cy="11430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57040" y="4893840"/>
            <a:ext cx="7599600" cy="1222920"/>
            <a:chOff x="257040" y="4893840"/>
            <a:chExt cx="7599600" cy="1222920"/>
          </a:xfrm>
        </p:grpSpPr>
        <p:sp>
          <p:nvSpPr>
            <p:cNvPr id="298" name=""/>
            <p:cNvSpPr/>
            <p:nvPr/>
          </p:nvSpPr>
          <p:spPr>
            <a:xfrm>
              <a:off x="257040" y="5122800"/>
              <a:ext cx="955800" cy="6843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web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serv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81000" y="4893840"/>
              <a:ext cx="24300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2440" y="5607000"/>
              <a:ext cx="1024200" cy="509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0"/>
              <a:endCxn id="290" idx="2"/>
            </p:cNvCxnSpPr>
            <p:nvPr/>
          </p:nvCxnSpPr>
          <p:spPr>
            <a:xfrm flipV="1">
              <a:off x="7345440" y="5195520"/>
              <a:ext cx="2160" cy="411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02" name=""/>
          <p:cNvSpPr/>
          <p:nvPr/>
        </p:nvSpPr>
        <p:spPr>
          <a:xfrm>
            <a:off x="7140600" y="52592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0" y="46274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0600" y="44258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2200" y="36050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4000" y="39956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0" y="3646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7000" y="42782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9200" y="44798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7400" y="4735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A2A-8E1E-4250-8E09-0235CFD79D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39800" y="5486400"/>
            <a:ext cx="7597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08280" y="5270040"/>
            <a:ext cx="1992600" cy="1150920"/>
            <a:chOff x="2708280" y="5270040"/>
            <a:chExt cx="1992600" cy="1150920"/>
          </a:xfrm>
        </p:grpSpPr>
        <p:sp>
          <p:nvSpPr>
            <p:cNvPr id="315" name=""/>
            <p:cNvSpPr/>
            <p:nvPr/>
          </p:nvSpPr>
          <p:spPr>
            <a:xfrm>
              <a:off x="2708280" y="596124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real 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7" idx="2"/>
              <a:endCxn id="315" idx="0"/>
            </p:cNvCxnSpPr>
            <p:nvPr/>
          </p:nvCxnSpPr>
          <p:spPr>
            <a:xfrm flipH="1">
              <a:off x="3704400" y="5270040"/>
              <a:ext cx="3960" cy="6915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ach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1841400"/>
            <a:ext cx="4191120" cy="3429000"/>
          </a:xfrm>
          <a:prstGeom prst="octagon">
            <a:avLst>
              <a:gd name="adj" fmla="val 29287"/>
            </a:avLst>
          </a:prstGeom>
          <a:solidFill>
            <a:srgbClr val="9933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3898800"/>
            <a:ext cx="4191120" cy="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0352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1320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5440" y="4051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4996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5960" y="400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404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7120" y="4348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Tahoma"/>
              </a:rPr>
              <a:t>RAW 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2800" y="2187720"/>
            <a:ext cx="1905120" cy="121896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46320" y="252720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65640" y="34416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36520" y="2527200"/>
            <a:ext cx="533160" cy="129564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5280" y="25844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983200" y="3898800"/>
            <a:ext cx="1600200" cy="1371600"/>
            <a:chOff x="5983200" y="3898800"/>
            <a:chExt cx="1600200" cy="1371600"/>
          </a:xfrm>
        </p:grpSpPr>
        <p:sp>
          <p:nvSpPr>
            <p:cNvPr id="333" name=""/>
            <p:cNvSpPr/>
            <p:nvPr/>
          </p:nvSpPr>
          <p:spPr>
            <a:xfrm>
              <a:off x="5983200" y="3898800"/>
              <a:ext cx="149400" cy="137160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5800" y="4170240"/>
              <a:ext cx="140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02200" y="5435640"/>
            <a:ext cx="2173320" cy="713880"/>
            <a:chOff x="5002200" y="5435640"/>
            <a:chExt cx="2173320" cy="713880"/>
          </a:xfrm>
        </p:grpSpPr>
        <p:sp>
          <p:nvSpPr>
            <p:cNvPr id="336" name=""/>
            <p:cNvSpPr/>
            <p:nvPr/>
          </p:nvSpPr>
          <p:spPr>
            <a:xfrm>
              <a:off x="5002200" y="5435640"/>
              <a:ext cx="2097000" cy="498600"/>
            </a:xfrm>
            <a:prstGeom prst="wedgeRoundRectCallout">
              <a:avLst>
                <a:gd name="adj1" fmla="val -45004"/>
                <a:gd name="adj2" fmla="val -17706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0640" y="5506920"/>
              <a:ext cx="214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Pcap/Liv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31840" y="5381640"/>
            <a:ext cx="1625760" cy="713880"/>
            <a:chOff x="1131840" y="5381640"/>
            <a:chExt cx="1625760" cy="713880"/>
          </a:xfrm>
        </p:grpSpPr>
        <p:sp>
          <p:nvSpPr>
            <p:cNvPr id="339" name=""/>
            <p:cNvSpPr/>
            <p:nvPr/>
          </p:nvSpPr>
          <p:spPr>
            <a:xfrm>
              <a:off x="1131840" y="5381640"/>
              <a:ext cx="1625760" cy="498600"/>
            </a:xfrm>
            <a:prstGeom prst="wedgeRoundRectCallout">
              <a:avLst>
                <a:gd name="adj1" fmla="val 58787"/>
                <a:gd name="adj2" fmla="val -10668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440" y="545292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I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4600" y="2836800"/>
            <a:ext cx="1874880" cy="1022400"/>
            <a:chOff x="6024600" y="2836800"/>
            <a:chExt cx="1874880" cy="1022400"/>
          </a:xfrm>
        </p:grpSpPr>
        <p:sp>
          <p:nvSpPr>
            <p:cNvPr id="342" name=""/>
            <p:cNvSpPr/>
            <p:nvPr/>
          </p:nvSpPr>
          <p:spPr>
            <a:xfrm>
              <a:off x="6024600" y="2836800"/>
              <a:ext cx="88920" cy="1022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6640 h 1022400"/>
                <a:gd name="textAreaBottom" fmla="*/ 99576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5120" y="305424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gent/Ta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356000" y="1600200"/>
            <a:ext cx="2329560" cy="523800"/>
            <a:chOff x="4356000" y="1600200"/>
            <a:chExt cx="2329560" cy="523800"/>
          </a:xfrm>
        </p:grpSpPr>
        <p:sp>
          <p:nvSpPr>
            <p:cNvPr id="345" name=""/>
            <p:cNvSpPr/>
            <p:nvPr/>
          </p:nvSpPr>
          <p:spPr>
            <a:xfrm>
              <a:off x="4356000" y="1600200"/>
              <a:ext cx="2286000" cy="523800"/>
            </a:xfrm>
            <a:prstGeom prst="wedgeRoundRectCallout">
              <a:avLst>
                <a:gd name="adj1" fmla="val -52569"/>
                <a:gd name="adj2" fmla="val 100606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0680" y="16765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cheduler/RealTim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601040" y="5005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9520" y="5477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CFD-A35B-490A-A41C-B898A6C6E0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altime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ed from Scheduler/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es simulation time to real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ils when simulation time falls behi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F4D-4B83-41CF-B1F1-BD742C9414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 of real traffic source/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 class for various network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ed read-only, write-only, or read-wr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w IP and UDP/I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raw IP packets or UDP/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 multicast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ca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link-layer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BPF/libpcap filtering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CAA-D76C-46DE-9DD3-4DA5F76696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less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bile 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atellite netwo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F4E-CE0E-4433-B79F-F03940708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p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208400"/>
            <a:ext cx="1666800" cy="76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0200" y="2217600"/>
            <a:ext cx="1667160" cy="76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2583000"/>
            <a:ext cx="549720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8760" y="201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packets:  to/from other n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9480" y="1816200"/>
            <a:ext cx="7840800" cy="35240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7400" y="4870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83000" y="312120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83000" y="35258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39290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83000" y="43322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rd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378400" y="3308400"/>
            <a:ext cx="1074960" cy="11844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53360" y="3308400"/>
            <a:ext cx="1169640" cy="1882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ylo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82640" y="2570040"/>
            <a:ext cx="995760" cy="550800"/>
            <a:chOff x="4382640" y="2570040"/>
            <a:chExt cx="995760" cy="550800"/>
          </a:xfrm>
        </p:grpSpPr>
        <p:sp>
          <p:nvSpPr>
            <p:cNvPr id="367" name=""/>
            <p:cNvSpPr/>
            <p:nvPr/>
          </p:nvSpPr>
          <p:spPr>
            <a:xfrm flipH="1">
              <a:off x="4382640" y="2582640"/>
              <a:ext cx="484200" cy="5382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9800" y="2570040"/>
              <a:ext cx="498600" cy="5508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62080" y="5838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2"/>
            <a:endCxn id="354" idx="0"/>
          </p:cNvCxnSpPr>
          <p:nvPr/>
        </p:nvCxnSpPr>
        <p:spPr>
          <a:xfrm>
            <a:off x="2163240" y="2985840"/>
            <a:ext cx="2520" cy="1222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69" idx="0"/>
          </p:cNvCxnSpPr>
          <p:nvPr/>
        </p:nvCxnSpPr>
        <p:spPr>
          <a:xfrm flipH="1">
            <a:off x="2158560" y="4976280"/>
            <a:ext cx="7200" cy="862920"/>
          </a:xfrm>
          <a:prstGeom prst="straightConnector1">
            <a:avLst/>
          </a:prstGeom>
          <a:ln w="381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153520" y="33577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P/U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e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C1E-BFE0-4342-82EE-24505BA19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interpret/generate liv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ing agents: ICMP ECHO, ICMP Redirect, ARP, TCP N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aqu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does not interpret network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: packet drop/reordering/delay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8FE-BC46-41CF-BC80-29802D2A6E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tocol Mode: Ping Respon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36440" y="3549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688560" y="2205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688560" y="501804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6" idx="6"/>
            <a:endCxn id="377" idx="3"/>
          </p:cNvCxnSpPr>
          <p:nvPr/>
        </p:nvCxnSpPr>
        <p:spPr>
          <a:xfrm flipH="1" flipV="1">
            <a:off x="4149000" y="2663280"/>
            <a:ext cx="2289960" cy="1154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0" name=""/>
          <p:cNvCxnSpPr>
            <a:stCxn id="376" idx="6"/>
            <a:endCxn id="378" idx="1"/>
          </p:cNvCxnSpPr>
          <p:nvPr/>
        </p:nvCxnSpPr>
        <p:spPr>
          <a:xfrm flipH="1">
            <a:off x="4149000" y="3817800"/>
            <a:ext cx="2289960" cy="127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81" name=""/>
          <p:cNvSpPr/>
          <p:nvPr/>
        </p:nvSpPr>
        <p:spPr>
          <a:xfrm flipH="1">
            <a:off x="4862520" y="46371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62520" y="276552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8880" y="34257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CMP ECH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pon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0440" y="171756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6440" y="511956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ut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247840" y="2487240"/>
            <a:ext cx="1436760" cy="12762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233080" y="3793680"/>
            <a:ext cx="1451160" cy="14893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400" y="337644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400" y="3402000"/>
            <a:ext cx="1413000" cy="766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 P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1666800"/>
            <a:ext cx="5164200" cy="4384800"/>
          </a:xfrm>
          <a:prstGeom prst="rect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97840" y="55562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7A7-C46A-42A6-BD58-A1EC5916E6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ge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Emulator addr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me [exec hostnam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r an arbitrary one (may require ARP suppo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 me “10.11.12.13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912-A37B-4194-A01E-44C9CE4C5C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/O network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in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bpf0 [new Network/Pcap/Liv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set promisc_ tr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d0 [$bpf0 open readonly fxp0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ilt “(not ip host $me)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filter $fil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net [new Network/I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net open write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1DE-4894-48CB-951C-8674A75068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n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pf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pfa network $bpf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ut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a network $ip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CMP ECHO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choagent [new Agent/PingRespo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1FA-6C9B-4560-928C-24CDEF8524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0 $n2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2 $n1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0 $pf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1 $ip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2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pf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ip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323-8D93-485D-AA74-7479F03189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# Wait for ping to come i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00.052m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± 1.021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150-A417-4174-8AE3-8B10DB48CF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foob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705800" cy="4548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aque Mode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TCP: 10 packet periodic drop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95720" y="4462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opped 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703240" y="4938840"/>
            <a:ext cx="152280" cy="4572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3320" y="3543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K of SYN+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4920" y="47671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ransmitt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59520" y="5297400"/>
            <a:ext cx="1143000" cy="38124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7440" y="3903840"/>
            <a:ext cx="1353960" cy="150156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72480" y="2556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Lo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806480" cy="46188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79720"/>
            <a:ext cx="1076400" cy="16099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181-88EC-40EB-A829-1DE0F5F77D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ns/emulat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ocol mode: ~ns/emulate/empaper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aque mode: ~ns/emulate/em3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1BB-81B0-4ED2-87CF-DA03F3343C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 Hoc Routing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 mobile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ving within 670mX670m flat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DSDV ad hoc routing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 Waypoint mobility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 and CBR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ns-2/tcl/ex/wireless-demo-csci694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AB5-FDDA-4800-95D9-A14ED0F99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7E9-A253-4FEA-9503-9DEC536CDF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t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 debug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enario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ache trace conver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BE0-134E-408A-AFB9-AE3511EE94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-debug 1.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expect.nist.gov/tcl-debug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s with Tcl 8.0.4 and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make distclean] in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tcldebug=&lt;dir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877-61C1-4615-AD99-F7C4BB02D7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cl-debu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 “debug 1” into your scripts, e.g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ebug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“debug 1” is executed, ns drops 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int/ns-2(121): ./ns 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: lappend auto_path $dbg_libr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g2.0&gt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48F-23FC-48C7-B7AF-9AE053F016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22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bg2.0&gt; 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s [#]           step into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s, commands, and argu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c               contin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r               continue until return to calle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u [#]           move scope up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 [#]           move scope down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go to absolute frame if # is prefaced by "#"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              show stack ("where"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w [#]        show/set widt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c [0|1]      show/set compres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              show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r regexp-pattern]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g glob-pattern]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[file:]#]       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pattern given, break if command resembles patter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# given, break on line #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expr given, break if expr tr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command given, execute command at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#            delete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             delete all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0E7-DBAE-4BF4-95E4-47361D205C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ology Gene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isi.edu/nsnam/ns/ns-topogen.htm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81160" y="3059280"/>
          <a:ext cx="7378560" cy="342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3059280"/>
                    <a:ext cx="7378560" cy="34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062-A144-472B-8848-889C2530BE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es with ns-allin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Knuth’s cweb and SG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m &lt;config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graph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at random: Waxm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-level hierarc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it-stu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A3E-4292-42AE-906B-F413C76881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Transit-Stub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585800" y="2835360"/>
            <a:ext cx="2286000" cy="1076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7560" y="2622600"/>
            <a:ext cx="1722240" cy="1035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00400" y="2932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2998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0040" y="35370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5800" y="2755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1840" y="3468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65240" y="34434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3000" y="3094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32440" y="32828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4" idx="3"/>
            <a:endCxn id="439" idx="7"/>
          </p:cNvCxnSpPr>
          <p:nvPr/>
        </p:nvCxnSpPr>
        <p:spPr>
          <a:xfrm flipH="1">
            <a:off x="2147400" y="3127320"/>
            <a:ext cx="185040" cy="34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3" name=""/>
          <p:cNvCxnSpPr>
            <a:stCxn id="439" idx="7"/>
            <a:endCxn id="436" idx="1"/>
          </p:cNvCxnSpPr>
          <p:nvPr/>
        </p:nvCxnSpPr>
        <p:spPr>
          <a:xfrm>
            <a:off x="2147760" y="3476520"/>
            <a:ext cx="45504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4" name=""/>
          <p:cNvCxnSpPr>
            <a:stCxn id="434" idx="5"/>
            <a:endCxn id="435" idx="3"/>
          </p:cNvCxnSpPr>
          <p:nvPr/>
        </p:nvCxnSpPr>
        <p:spPr>
          <a:xfrm>
            <a:off x="2482920" y="3126960"/>
            <a:ext cx="427680" cy="67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5" name=""/>
          <p:cNvCxnSpPr>
            <a:stCxn id="436" idx="0"/>
            <a:endCxn id="435" idx="3"/>
          </p:cNvCxnSpPr>
          <p:nvPr/>
        </p:nvCxnSpPr>
        <p:spPr>
          <a:xfrm flipV="1">
            <a:off x="2678040" y="3193200"/>
            <a:ext cx="232560" cy="343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6" name=""/>
          <p:cNvCxnSpPr>
            <a:stCxn id="438" idx="2"/>
            <a:endCxn id="436" idx="0"/>
          </p:cNvCxnSpPr>
          <p:nvPr/>
        </p:nvCxnSpPr>
        <p:spPr>
          <a:xfrm flipH="1" flipV="1">
            <a:off x="2677680" y="3536640"/>
            <a:ext cx="524160" cy="4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35" idx="5"/>
            <a:endCxn id="438" idx="1"/>
          </p:cNvCxnSpPr>
          <p:nvPr/>
        </p:nvCxnSpPr>
        <p:spPr>
          <a:xfrm>
            <a:off x="3060360" y="3193920"/>
            <a:ext cx="17388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8" name=""/>
          <p:cNvCxnSpPr>
            <a:stCxn id="440" idx="6"/>
            <a:endCxn id="441" idx="1"/>
          </p:cNvCxnSpPr>
          <p:nvPr/>
        </p:nvCxnSpPr>
        <p:spPr>
          <a:xfrm>
            <a:off x="6307200" y="3208320"/>
            <a:ext cx="55800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0" idx="6"/>
            <a:endCxn id="437" idx="3"/>
          </p:cNvCxnSpPr>
          <p:nvPr/>
        </p:nvCxnSpPr>
        <p:spPr>
          <a:xfrm flipV="1">
            <a:off x="6306840" y="2950920"/>
            <a:ext cx="261000" cy="257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50" name=""/>
          <p:cNvCxnSpPr>
            <a:stCxn id="437" idx="5"/>
            <a:endCxn id="441" idx="1"/>
          </p:cNvCxnSpPr>
          <p:nvPr/>
        </p:nvCxnSpPr>
        <p:spPr>
          <a:xfrm>
            <a:off x="6718320" y="2951280"/>
            <a:ext cx="146880" cy="36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1425600" y="4962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48006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" y="3925800"/>
            <a:ext cx="806400" cy="6447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19494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94400" y="1749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8200" y="1695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8" idx="6"/>
            <a:endCxn id="440" idx="2"/>
          </p:cNvCxnSpPr>
          <p:nvPr/>
        </p:nvCxnSpPr>
        <p:spPr>
          <a:xfrm flipV="1">
            <a:off x="3416040" y="3207600"/>
            <a:ext cx="2677320" cy="3754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754200" y="404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9040" y="22604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2640" y="51656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016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1000" y="197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67800" y="1897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7840" y="5110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7000" y="5326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6"/>
            <a:endCxn id="461" idx="2"/>
          </p:cNvCxnSpPr>
          <p:nvPr/>
        </p:nvCxnSpPr>
        <p:spPr>
          <a:xfrm flipV="1">
            <a:off x="3632040" y="51303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7" name=""/>
          <p:cNvCxnSpPr>
            <a:stCxn id="461" idx="2"/>
            <a:endCxn id="465" idx="0"/>
          </p:cNvCxnSpPr>
          <p:nvPr/>
        </p:nvCxnSpPr>
        <p:spPr>
          <a:xfrm flipH="1">
            <a:off x="3914280" y="51303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8" name=""/>
          <p:cNvCxnSpPr>
            <a:stCxn id="464" idx="6"/>
            <a:endCxn id="465" idx="0"/>
          </p:cNvCxnSpPr>
          <p:nvPr/>
        </p:nvCxnSpPr>
        <p:spPr>
          <a:xfrm>
            <a:off x="3631680" y="52239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3510000" y="5338800"/>
            <a:ext cx="54000" cy="214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213000" y="51372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882800" y="52178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5400" y="52308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262400"/>
            <a:ext cx="162000" cy="147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85800" y="4276800"/>
            <a:ext cx="201600" cy="18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55600" y="2111400"/>
            <a:ext cx="1764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034640" y="2352600"/>
            <a:ext cx="282600" cy="41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7000" y="4021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4400" y="4224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64200" y="4276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6800" y="4289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6400" y="45990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15240" y="48150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7440" y="49086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6240" y="5124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2" idx="2"/>
          </p:cNvCxnSpPr>
          <p:nvPr/>
        </p:nvCxnSpPr>
        <p:spPr>
          <a:xfrm flipV="1">
            <a:off x="7451640" y="49287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>
            <a:off x="7733880" y="49287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83" idx="6"/>
            <a:endCxn id="484" idx="0"/>
          </p:cNvCxnSpPr>
          <p:nvPr/>
        </p:nvCxnSpPr>
        <p:spPr>
          <a:xfrm>
            <a:off x="7451280" y="50223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867800" y="5270400"/>
            <a:ext cx="161640" cy="106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8028000" y="49626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39" idx="3"/>
            <a:endCxn id="458" idx="7"/>
          </p:cNvCxnSpPr>
          <p:nvPr/>
        </p:nvCxnSpPr>
        <p:spPr>
          <a:xfrm flipH="1">
            <a:off x="936000" y="3638520"/>
            <a:ext cx="1060920" cy="443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39" idx="3"/>
            <a:endCxn id="460" idx="0"/>
          </p:cNvCxnSpPr>
          <p:nvPr/>
        </p:nvCxnSpPr>
        <p:spPr>
          <a:xfrm flipH="1">
            <a:off x="1789920" y="3638520"/>
            <a:ext cx="207000" cy="152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2" name=""/>
          <p:cNvCxnSpPr>
            <a:stCxn id="434" idx="1"/>
            <a:endCxn id="459" idx="5"/>
          </p:cNvCxnSpPr>
          <p:nvPr/>
        </p:nvCxnSpPr>
        <p:spPr>
          <a:xfrm flipH="1" flipV="1">
            <a:off x="1501560" y="2455200"/>
            <a:ext cx="830880" cy="510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3" name=""/>
          <p:cNvCxnSpPr>
            <a:stCxn id="436" idx="5"/>
            <a:endCxn id="464" idx="1"/>
          </p:cNvCxnSpPr>
          <p:nvPr/>
        </p:nvCxnSpPr>
        <p:spPr>
          <a:xfrm>
            <a:off x="2752560" y="3731760"/>
            <a:ext cx="697680" cy="14122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352600" y="1762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0000" y="1965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809800" y="2017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2030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35" idx="0"/>
            <a:endCxn id="495" idx="4"/>
          </p:cNvCxnSpPr>
          <p:nvPr/>
        </p:nvCxnSpPr>
        <p:spPr>
          <a:xfrm flipH="1" flipV="1">
            <a:off x="2717280" y="2193480"/>
            <a:ext cx="269280" cy="805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9" name=""/>
          <p:cNvCxnSpPr>
            <a:stCxn id="461" idx="6"/>
            <a:endCxn id="483" idx="2"/>
          </p:cNvCxnSpPr>
          <p:nvPr/>
        </p:nvCxnSpPr>
        <p:spPr>
          <a:xfrm flipV="1">
            <a:off x="4209840" y="5022360"/>
            <a:ext cx="302796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0" name=""/>
          <p:cNvCxnSpPr>
            <a:stCxn id="440" idx="4"/>
            <a:endCxn id="478" idx="0"/>
          </p:cNvCxnSpPr>
          <p:nvPr/>
        </p:nvCxnSpPr>
        <p:spPr>
          <a:xfrm flipH="1">
            <a:off x="5971320" y="3322800"/>
            <a:ext cx="229320" cy="90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1" name=""/>
          <p:cNvCxnSpPr>
            <a:stCxn id="437" idx="0"/>
            <a:endCxn id="462" idx="5"/>
          </p:cNvCxnSpPr>
          <p:nvPr/>
        </p:nvCxnSpPr>
        <p:spPr>
          <a:xfrm flipH="1" flipV="1">
            <a:off x="6112800" y="2172960"/>
            <a:ext cx="531000" cy="583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2" name=""/>
          <p:cNvCxnSpPr>
            <a:stCxn id="437" idx="0"/>
            <a:endCxn id="463" idx="3"/>
          </p:cNvCxnSpPr>
          <p:nvPr/>
        </p:nvCxnSpPr>
        <p:spPr>
          <a:xfrm flipV="1">
            <a:off x="6643800" y="2091600"/>
            <a:ext cx="1256400" cy="664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3" name=""/>
          <p:cNvCxnSpPr>
            <a:stCxn id="441" idx="5"/>
            <a:endCxn id="483" idx="0"/>
          </p:cNvCxnSpPr>
          <p:nvPr/>
        </p:nvCxnSpPr>
        <p:spPr>
          <a:xfrm>
            <a:off x="7014960" y="3477960"/>
            <a:ext cx="330840" cy="1430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041360" y="55515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6160" y="23367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109200">
            <a:off x="3944520" y="344160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ransit-transit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21545400">
            <a:off x="4832280" y="504144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ub-stub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919-8B3A-4B0A-B732-FCA638EC27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it-stub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fig file (e.g., ts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method keyword&gt; &lt;number of graphs&gt; [&lt;initial seed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# stubs/trans node&gt; &lt;#rand. t-s edges&gt; &lt;#rand. s-s edges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{&lt;n&gt; &lt;scale&gt; &lt;edgemethod&gt; &lt;alpha&gt; [&lt;beta&gt;] [&lt;gamma&gt;]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(average!) number of nodes = 1x2x(1+3x4) = 2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s 10 47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10 graphs, init seed 4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3 0 0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2 stubs per transit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 20 3 1.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transit domains (pure random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2 2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nodes per transit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4 1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nodes in each stub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E86-05EF-42B2-AF2B-5328BAC14E6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itm ts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: ts1-{0-9}.g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files in SGB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592-1C3B-4648-9A6B-3C261111DD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" y="1717560"/>
            <a:ext cx="7966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Global Variab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reate a topology in a 670m x 670m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topo [new Topography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topo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load_flatgri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C40-96B8-426E-93B2-C42B667F25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SGB format to ns config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ns &lt;SGB_file&gt; &lt;OTcl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s2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output lists of transit and stub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hi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transit-stub information into hierarchical addr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hierns &lt;SGBFile&gt; &lt;Tcl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907-BFE6-4A55-87C7-DFEAAEE8047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mat of generated ns config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create-topology {nsns node linkBW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ode 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sns 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nodes, link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&lt;OTcl_file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s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54C-3984-4124-97F6-76C3BDB7A1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e Your Top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n ns wrapp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ume you’ve done “sgb2ns ts1-0.gb ts1.tcl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ts1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amtrac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open ts1.nam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exit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>
            <a:hlinkClick r:id="rId2"/>
          </p:cNvPr>
          <p:cNvSpPr/>
          <p:nvPr/>
        </p:nvSpPr>
        <p:spPr>
          <a:xfrm>
            <a:off x="7839000" y="5553000"/>
            <a:ext cx="754200" cy="430200"/>
          </a:xfrm>
          <a:custGeom>
            <a:avLst/>
            <a:gdLst>
              <a:gd name="textAreaLeft" fmla="*/ 27720 w 754200"/>
              <a:gd name="textAreaRight" fmla="*/ 726480 w 754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7854" h="21600">
                <a:moveTo>
                  <a:pt x="0" y="0"/>
                </a:moveTo>
                <a:lnTo>
                  <a:pt x="37854" y="0"/>
                </a:lnTo>
                <a:lnTo>
                  <a:pt x="37854" y="21600"/>
                </a:lnTo>
                <a:lnTo>
                  <a:pt x="0" y="21600"/>
                </a:lnTo>
                <a:close/>
              </a:path>
              <a:path fill="lightenLess" w="37854" h="21600">
                <a:moveTo>
                  <a:pt x="0" y="0"/>
                </a:moveTo>
                <a:lnTo>
                  <a:pt x="37854" y="0"/>
                </a:lnTo>
                <a:lnTo>
                  <a:pt x="36454" y="1400"/>
                </a:lnTo>
                <a:lnTo>
                  <a:pt x="1400" y="1400"/>
                </a:lnTo>
                <a:close/>
              </a:path>
              <a:path fill="darken" w="37854" h="21600">
                <a:moveTo>
                  <a:pt x="37854" y="0"/>
                </a:moveTo>
                <a:lnTo>
                  <a:pt x="37854" y="21600"/>
                </a:lnTo>
                <a:lnTo>
                  <a:pt x="36454" y="20200"/>
                </a:lnTo>
                <a:lnTo>
                  <a:pt x="36454" y="1400"/>
                </a:lnTo>
                <a:close/>
              </a:path>
              <a:path fill="darkenLess" w="37854" h="21600">
                <a:moveTo>
                  <a:pt x="37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54" y="20200"/>
                </a:lnTo>
                <a:close/>
              </a:path>
              <a:path fill="lighten" w="37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54" h="21600">
                <a:moveTo>
                  <a:pt x="11921" y="7301"/>
                </a:moveTo>
                <a:lnTo>
                  <a:pt x="12834" y="7301"/>
                </a:lnTo>
                <a:lnTo>
                  <a:pt x="13217" y="7667"/>
                </a:lnTo>
                <a:lnTo>
                  <a:pt x="22426" y="7667"/>
                </a:lnTo>
                <a:lnTo>
                  <a:pt x="22983" y="8224"/>
                </a:lnTo>
                <a:lnTo>
                  <a:pt x="22983" y="8772"/>
                </a:lnTo>
                <a:lnTo>
                  <a:pt x="24828" y="8772"/>
                </a:lnTo>
                <a:lnTo>
                  <a:pt x="25194" y="8224"/>
                </a:lnTo>
                <a:lnTo>
                  <a:pt x="25934" y="8224"/>
                </a:lnTo>
                <a:lnTo>
                  <a:pt x="25934" y="13376"/>
                </a:lnTo>
                <a:lnTo>
                  <a:pt x="25194" y="13376"/>
                </a:lnTo>
                <a:lnTo>
                  <a:pt x="24828" y="12828"/>
                </a:lnTo>
                <a:lnTo>
                  <a:pt x="22983" y="12828"/>
                </a:lnTo>
                <a:lnTo>
                  <a:pt x="22983" y="14107"/>
                </a:lnTo>
                <a:lnTo>
                  <a:pt x="13400" y="14107"/>
                </a:lnTo>
                <a:lnTo>
                  <a:pt x="13400" y="9877"/>
                </a:lnTo>
                <a:lnTo>
                  <a:pt x="13217" y="9877"/>
                </a:lnTo>
                <a:lnTo>
                  <a:pt x="12834" y="10243"/>
                </a:lnTo>
                <a:lnTo>
                  <a:pt x="11921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AFF-451A-472B-804E-83D21DCB32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1744560"/>
            <a:ext cx="830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standard ns/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s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tracef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[open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demo.tr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trace-all $tracef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amtrace [open demo.nam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namtrace-all-wireless $namtrace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291-059A-4D47-B8FF-192942D2A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5200" y="1730520"/>
            <a:ext cx="830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Create G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set god [create-god 3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$ns at 900.00 “$god setdist 2 3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345240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Go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ore an array of the smallest number of hops required to reach one node to an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mal case against which to compare routing protocol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ally generated by scenario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F3-A1A3-41C6-9886-D39296590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1744560"/>
            <a:ext cx="8308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Define how a mobile node should be cre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nod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dhocRoutin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DSDV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l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L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Mac/802_11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Len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50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Queue/DropTail/PriQueu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nt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Antenna/OmniAntenna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rop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ropagation/TwoRayGround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hy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hy/WirelessPhy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channe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Channel/WirelessChannel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topoInstan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$to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gent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N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router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546-8667-4AD2-8C8A-63329EC95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1730520"/>
            <a:ext cx="8308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 a mobile node, attach it to the channe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0) [$ns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disable random motion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ode(0) random-motion 0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38556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“for” loop to create 3 nod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&lt; 0} {$i &lt; 3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$i) [$ns nod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921-CC26-463A-9B9D-CFB80CE193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39:01Z</dcterms:modified>
  <cp:revision>671</cp:revision>
  <dc:subject/>
  <dc:title>ns-2 tutorial for IEC'00 workshop</dc:title>
</cp:coreProperties>
</file>