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9AF-6EB2-4189-B969-C30981CC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4FF-E757-45E6-8596-20C32883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388-6152-4D3D-A59D-2D620FF8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908-2B1B-4151-B7F7-4FEEBD34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8320-8A07-40DE-A976-9D9EEF1A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1C6-6833-4DC1-B893-8A47181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34D-98A6-424B-AEC6-8D14A5A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760E-F0F0-4311-B19D-F3278B2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EEE8-653F-493E-9A3E-B79A36EE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B340-1BE1-4275-9EEE-40582D92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0E85-9D27-47B2-BB46-F8C63D0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2B1-0256-4707-82DA-79A309F7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73EF-DD8A-4A2B-A41F-78F34CD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15A-3146-49F5-98DA-F03FC91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E3A-8E6F-4BE9-9226-78E5EF2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3998-AC54-477E-B734-8EBB8468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426-E986-468A-8718-94123C82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F53-A75F-4469-BA92-52739F2E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21A-62C8-42A5-817A-04C66F0D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528-5FCB-4678-846C-3577CE38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1A0-7C4C-4CF7-922F-CA36C760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329-57CD-427D-9152-0695AA2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513-5EE9-4489-BCA9-CCC2816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3A8-89F3-4C38-8372-B495BBA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20AB-262F-43A2-99FB-81E90E42382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C0F-FB85-43A5-B2E2-E0D0E1856318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2863-6A7F-4477-990B-332227621FB6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8B0-4EC0-445E-B5CA-093E38A824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noc.nam&quot;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c:\research\vint\nam-1.0a9\nam.exe &quot;c:/research/vint/nam-1.0a9/ex/srm-example.nam&quot;" TargetMode="External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color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6A87-C9C2-46C7-99B2-F9E15A2EAE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Batch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simple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4%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55C-99AE-442D-99F2-4600F4986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 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b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test { a b 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c [expr $a + $b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a - $b] * $c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 0} {$k &lt; 10}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c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$k &lt; 5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lt; 5, pow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pow($d, $k)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gt;= 5, mod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d % $k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est 43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65B-DED9-4A3B-BF7D-CA45FE05E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191120" cy="4516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mom: How are you doing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-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uper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kid: What’s up, dude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29200" y="1676520"/>
            <a:ext cx="3581280" cy="4518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4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656-0219-4CAC-B7F2-299C2C23F0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s of ns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h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Turn on tracing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up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rt err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nsport conn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application-level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396-DF79-4C22-99C9-EBC407DC9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 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 &lt;time&gt; &lt;event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event&gt;: any legitimate ns/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A51-E08B-423E-AA16-9FEC09499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all [open test.out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&lt;event&gt; &lt;time&gt; &lt;from&gt; &lt;to&gt; &lt;pkt&gt; &lt;size&gt; -- &lt;fid&gt; &lt;src&gt; &lt;dst&gt; &lt;seq&gt; &lt;attr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+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-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r 1.00234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 in nam-1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all [open test.nam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Must appear immediately after creating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EDA-C5B0-4696-870D-F6E38A0E94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tracing on specific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2BF-F16B-4CD4-A89E-6F7A3E9B89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0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1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and queu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queue_type&gt;: DropTail, RED, CBQ, FQ, SFQ, DR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2AF-D399-4572-A3E4-88393BFDEF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: L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ake-lan &lt;node_list&gt; &lt;bandwidth&gt; &lt;delay&gt; &lt;ll_type&gt; &lt;ifq_type&gt; &lt;mac_type&gt; &lt;channel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ll_type&gt;: 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ifq_type&gt;: Queue/DropTail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mac_type&gt;: MAC/802_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channel_type&gt;: Chann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C59-F350-4A51-8164-96E181CBCB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erting Err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loss_module [new ErrorMode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set rate_ 0.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unit p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ranvar [new RandomVariable/Unifor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drop-target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er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lossmodel $loss_modul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773-8B9E-4B15-85C1-21C54B8383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Prim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tting star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C5D-7BE9-485D-8162-ADFB57286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Dynam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fail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 in routing module to reflect routing chan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Trace &lt;config_file&gt;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Exponential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Deterministic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-at &lt;time&gt; up|down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meter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[&lt;start&gt;] &lt;up_interval&gt; &lt;down_interval&gt; [&lt;finish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029-EFD2-46CA-85BB-30335F9C93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up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Static, Session, DV, cost, multi-p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ulticast (right after [new Simulato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CtrMcast, DM, ST, B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1A7-D4E8-45EC-9535-5C0B1E277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UD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udp [new Agent/UD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ull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ud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udp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555-193F-4A7E-855F-F964D2E2FD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UD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B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CB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onential or Pareto on-of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Exponentia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Pareto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002-30EF-4F2C-9AC1-DE7E04A99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TC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sink [new Agent/TCPSink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tcp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E7E-1F11-49FB-A55F-5BB09103C3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TC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ftp [new Application/FT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ftp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elnet [new Application/Telnet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telnet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E88-E8BD-4599-81FB-5DD9070917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Traffic: Trace Driv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e dr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tfile [new Tracefil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tfile filename &lt;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src [new Application/Traffic/Trac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src attach-tracefile $tf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file&gt;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ary format (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native!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-packet time (msec) and packet size (byt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FE7-B5FA-4AB0-9282-540061FD92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-Level Sim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on top of existing transport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user data, e.g., HTTP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different 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: Application/TcpAp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DP: Agent/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633-9D89-4469-9E7F-72C8B0BC69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19000" y="3949200"/>
            <a:ext cx="6019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: TCP as a FIFO pi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fore sending: S notifies about R data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fter receiving: R gets data (arbitrary string) from 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1524400">
            <a:off x="32004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524400">
            <a:off x="495288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1524400">
            <a:off x="64008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17040" y="4254480"/>
            <a:ext cx="1690560" cy="1557000"/>
            <a:chOff x="6917040" y="4254480"/>
            <a:chExt cx="1690560" cy="1557000"/>
          </a:xfrm>
        </p:grpSpPr>
        <p:sp>
          <p:nvSpPr>
            <p:cNvPr id="339" name=""/>
            <p:cNvSpPr/>
            <p:nvPr/>
          </p:nvSpPr>
          <p:spPr>
            <a:xfrm>
              <a:off x="6917040" y="4254480"/>
              <a:ext cx="766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48760" y="4788000"/>
              <a:ext cx="115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Out-of-ban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295280" y="3048120"/>
            <a:ext cx="6827760" cy="557640"/>
            <a:chOff x="1295280" y="3048120"/>
            <a:chExt cx="6827760" cy="557640"/>
          </a:xfrm>
        </p:grpSpPr>
        <p:sp>
          <p:nvSpPr>
            <p:cNvPr id="342" name=""/>
            <p:cNvSpPr/>
            <p:nvPr/>
          </p:nvSpPr>
          <p:spPr>
            <a:xfrm>
              <a:off x="1295280" y="3048120"/>
              <a:ext cx="5639040" cy="53316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98480" y="3206880"/>
              <a:ext cx="192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Expec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371240" y="1897200"/>
            <a:ext cx="7893360" cy="617400"/>
            <a:chOff x="1371240" y="1897200"/>
            <a:chExt cx="7893360" cy="617400"/>
          </a:xfrm>
        </p:grpSpPr>
        <p:sp>
          <p:nvSpPr>
            <p:cNvPr id="345" name=""/>
            <p:cNvSpPr/>
            <p:nvPr/>
          </p:nvSpPr>
          <p:spPr>
            <a:xfrm rot="10800000">
              <a:off x="1371240" y="1980720"/>
              <a:ext cx="5638680" cy="53352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64360" y="189720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Get firs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 of da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40000" y="2119320"/>
            <a:ext cx="1601640" cy="703800"/>
            <a:chOff x="1440000" y="2119320"/>
            <a:chExt cx="1601640" cy="703800"/>
          </a:xfrm>
        </p:grpSpPr>
        <p:sp>
          <p:nvSpPr>
            <p:cNvPr id="348" name=""/>
            <p:cNvSpPr/>
            <p:nvPr/>
          </p:nvSpPr>
          <p:spPr>
            <a:xfrm rot="21524400">
              <a:off x="1600200" y="2590920"/>
              <a:ext cx="219240" cy="11412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0000" y="2119320"/>
              <a:ext cx="160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pkt (empt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05280" y="2895480"/>
            <a:ext cx="581400" cy="467280"/>
            <a:chOff x="5705280" y="2895480"/>
            <a:chExt cx="581400" cy="467280"/>
          </a:xfrm>
        </p:grpSpPr>
        <p:sp>
          <p:nvSpPr>
            <p:cNvPr id="351" name=""/>
            <p:cNvSpPr/>
            <p:nvPr/>
          </p:nvSpPr>
          <p:spPr>
            <a:xfrm rot="10800000">
              <a:off x="5866920" y="2895480"/>
              <a:ext cx="219240" cy="1144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f7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05280" y="29638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ac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rot="10800000">
            <a:off x="44197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2971440" y="2895480"/>
            <a:ext cx="21924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6765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EDF-34D2-411B-91D3-E4A921FB2D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ep 1: FullTcp conn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1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2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1 $tcp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2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connect $tcp1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2 list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B3B-9FE4-4280-A2A9-5731752F03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ic Tcl,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ements of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0D5-BDB6-4F6C-88BF-2CE709F4E0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ep 2: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reliable, in-ord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user data transf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1 [new Application/TcpApp $tcp1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2 [new Application/TcpApp $tcp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app1 connect $app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&lt;ns-2 command&gt;: will be executed when received at the receiver TcpAp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1.0 “$app1 send &lt;data_byte&gt; \”&lt;ns-2 command&gt;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18E-BFD8-405A-8177-7D416FC3C3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’ll give an example tomorr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524400">
            <a:off x="31399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524400">
            <a:off x="4892760" y="2590920"/>
            <a:ext cx="21888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1524400">
            <a:off x="63403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1524400">
            <a:off x="15397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E16-948D-4064-BE36-35BD7344C8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: Generic Script Structu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[Turn on tracing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up packet loss, link dynami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routing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multicast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protocol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application and/or setup traffic sour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ost-processing pro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tart sim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7FD-0A6D-430B-A034-F5097635F4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CD3-7F76-46D2-B714-294A5A159A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996120" y="3378240"/>
            <a:ext cx="2090520" cy="825480"/>
            <a:chOff x="996120" y="3378240"/>
            <a:chExt cx="2090520" cy="825480"/>
          </a:xfrm>
        </p:grpSpPr>
        <p:sp>
          <p:nvSpPr>
            <p:cNvPr id="376" name=""/>
            <p:cNvSpPr/>
            <p:nvPr/>
          </p:nvSpPr>
          <p:spPr>
            <a:xfrm flipH="1">
              <a:off x="1834560" y="3535200"/>
              <a:ext cx="53820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2"/>
              <a:endCxn id="378" idx="6"/>
            </p:cNvCxnSpPr>
            <p:nvPr/>
          </p:nvCxnSpPr>
          <p:spPr>
            <a:xfrm>
              <a:off x="2374920" y="3803760"/>
              <a:ext cx="71208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79" name=""/>
            <p:cNvSpPr/>
            <p:nvPr/>
          </p:nvSpPr>
          <p:spPr>
            <a:xfrm>
              <a:off x="99612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94680" y="3378240"/>
            <a:ext cx="2089080" cy="825480"/>
            <a:chOff x="994680" y="3378240"/>
            <a:chExt cx="2089080" cy="825480"/>
          </a:xfrm>
        </p:grpSpPr>
        <p:grpSp>
          <p:nvGrpSpPr>
            <p:cNvPr id="381" name=""/>
            <p:cNvGrpSpPr/>
            <p:nvPr/>
          </p:nvGrpSpPr>
          <p:grpSpPr>
            <a:xfrm>
              <a:off x="1833480" y="3535200"/>
              <a:ext cx="1250280" cy="538200"/>
              <a:chOff x="1833480" y="3535200"/>
              <a:chExt cx="1250280" cy="53820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1833480" y="3535200"/>
                <a:ext cx="537840" cy="5382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G2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83" name=""/>
              <p:cNvCxnSpPr>
                <a:stCxn id="382" idx="2"/>
                <a:endCxn id="384" idx="6"/>
              </p:cNvCxnSpPr>
              <p:nvPr/>
            </p:nvCxnSpPr>
            <p:spPr>
              <a:xfrm>
                <a:off x="2372400" y="3803400"/>
                <a:ext cx="7117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  <p:sp>
          <p:nvSpPr>
            <p:cNvPr id="385" name=""/>
            <p:cNvSpPr/>
            <p:nvPr/>
          </p:nvSpPr>
          <p:spPr>
            <a:xfrm>
              <a:off x="99468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2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005480" y="3382920"/>
            <a:ext cx="2070720" cy="825480"/>
            <a:chOff x="1005480" y="3382920"/>
            <a:chExt cx="2070720" cy="825480"/>
          </a:xfrm>
        </p:grpSpPr>
        <p:sp>
          <p:nvSpPr>
            <p:cNvPr id="387" name=""/>
            <p:cNvSpPr/>
            <p:nvPr/>
          </p:nvSpPr>
          <p:spPr>
            <a:xfrm flipH="1">
              <a:off x="1825560" y="3539880"/>
              <a:ext cx="53784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>
              <a:off x="2364840" y="3808440"/>
              <a:ext cx="71172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1005480" y="3382920"/>
              <a:ext cx="93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5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Multicast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group membership under Dens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339440" y="4356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130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83760" y="3535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83760" y="5272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2" idx="2"/>
            <a:endCxn id="393" idx="6"/>
          </p:cNvCxnSpPr>
          <p:nvPr/>
        </p:nvCxnSpPr>
        <p:spPr>
          <a:xfrm>
            <a:off x="4879800" y="4624560"/>
            <a:ext cx="1253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92" idx="6"/>
            <a:endCxn id="384" idx="3"/>
          </p:cNvCxnSpPr>
          <p:nvPr/>
        </p:nvCxnSpPr>
        <p:spPr>
          <a:xfrm flipH="1" flipV="1">
            <a:off x="3544560" y="3993480"/>
            <a:ext cx="797760" cy="6310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92" idx="6"/>
            <a:endCxn id="378" idx="1"/>
          </p:cNvCxnSpPr>
          <p:nvPr/>
        </p:nvCxnSpPr>
        <p:spPr>
          <a:xfrm flipH="1">
            <a:off x="3544560" y="462420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97" name=""/>
          <p:cNvSpPr/>
          <p:nvPr/>
        </p:nvSpPr>
        <p:spPr>
          <a:xfrm flipH="1">
            <a:off x="4803120" y="42400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728160" y="49989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325640" y="43578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6"/>
            <a:endCxn id="393" idx="2"/>
          </p:cNvCxnSpPr>
          <p:nvPr/>
        </p:nvCxnSpPr>
        <p:spPr>
          <a:xfrm flipH="1">
            <a:off x="6670080" y="4625640"/>
            <a:ext cx="65772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1056600" y="4251240"/>
            <a:ext cx="9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25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28080" y="52704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2"/>
            <a:endCxn id="378" idx="6"/>
          </p:cNvCxnSpPr>
          <p:nvPr/>
        </p:nvCxnSpPr>
        <p:spPr>
          <a:xfrm>
            <a:off x="2368440" y="5538960"/>
            <a:ext cx="7185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 flipH="1">
            <a:off x="3701160" y="39337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6EF-DBE9-4FE7-9F28-F177337858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, tracing, and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cast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A7D-30ED-48BE-B2B4-66B7B42D29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3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link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1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2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3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AD8-E244-40A4-A13C-522769534AA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 and group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rtproto D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llocate group addres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1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2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C9A-6D36-4E62-9BB5-53CBAD946E4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0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1C6-3CD9-4F8A-90C5-AF6BF85EC0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3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1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D93-CFEC-40CE-AD6C-E095F251AE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Archite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ct-oriented (C++, O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+ Exte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/”data” sepa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C++/OTcl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ular approa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grained object com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DF9-D7F4-47BF-A125-C23C13B4D7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with dynamic member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an also be Agent/Nu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Agent/LossMoni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ign it to node $n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leave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1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426-B024-418D-AD14-8672734252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2.0 "finish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running nam...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ec nam out.nam &amp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">
            <a:hlinkClick r:id="rId2"/>
          </p:cNvPr>
          <p:cNvSpPr/>
          <p:nvPr/>
        </p:nvSpPr>
        <p:spPr>
          <a:xfrm>
            <a:off x="8169120" y="5881680"/>
            <a:ext cx="741600" cy="469800"/>
          </a:xfrm>
          <a:custGeom>
            <a:avLst/>
            <a:gdLst>
              <a:gd name="textAreaLeft" fmla="*/ 30240 w 741600"/>
              <a:gd name="textAreaRight" fmla="*/ 711360 w 74160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34087" h="21600">
                <a:moveTo>
                  <a:pt x="0" y="0"/>
                </a:moveTo>
                <a:lnTo>
                  <a:pt x="34087" y="0"/>
                </a:lnTo>
                <a:lnTo>
                  <a:pt x="34087" y="21600"/>
                </a:lnTo>
                <a:lnTo>
                  <a:pt x="0" y="21600"/>
                </a:lnTo>
                <a:close/>
              </a:path>
              <a:path fill="lightenLess" w="34087" h="21600">
                <a:moveTo>
                  <a:pt x="0" y="0"/>
                </a:moveTo>
                <a:lnTo>
                  <a:pt x="34087" y="0"/>
                </a:lnTo>
                <a:lnTo>
                  <a:pt x="32687" y="1400"/>
                </a:lnTo>
                <a:lnTo>
                  <a:pt x="1400" y="1400"/>
                </a:lnTo>
                <a:close/>
              </a:path>
              <a:path fill="darken" w="34087" h="21600">
                <a:moveTo>
                  <a:pt x="34087" y="0"/>
                </a:moveTo>
                <a:lnTo>
                  <a:pt x="34087" y="21600"/>
                </a:lnTo>
                <a:lnTo>
                  <a:pt x="32687" y="20200"/>
                </a:lnTo>
                <a:lnTo>
                  <a:pt x="32687" y="1400"/>
                </a:lnTo>
                <a:close/>
              </a:path>
              <a:path fill="darkenLess" w="34087" h="21600">
                <a:moveTo>
                  <a:pt x="34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87" y="20200"/>
                </a:lnTo>
                <a:close/>
              </a:path>
              <a:path fill="lighten" w="34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87" h="21600">
                <a:moveTo>
                  <a:pt x="10037" y="7301"/>
                </a:moveTo>
                <a:lnTo>
                  <a:pt x="10951" y="7301"/>
                </a:lnTo>
                <a:lnTo>
                  <a:pt x="11334" y="7667"/>
                </a:lnTo>
                <a:lnTo>
                  <a:pt x="20542" y="7667"/>
                </a:lnTo>
                <a:lnTo>
                  <a:pt x="21099" y="8224"/>
                </a:lnTo>
                <a:lnTo>
                  <a:pt x="21099" y="8772"/>
                </a:lnTo>
                <a:lnTo>
                  <a:pt x="22945" y="8772"/>
                </a:lnTo>
                <a:lnTo>
                  <a:pt x="23310" y="8224"/>
                </a:lnTo>
                <a:lnTo>
                  <a:pt x="24050" y="8224"/>
                </a:lnTo>
                <a:lnTo>
                  <a:pt x="24050" y="13376"/>
                </a:lnTo>
                <a:lnTo>
                  <a:pt x="23310" y="13376"/>
                </a:lnTo>
                <a:lnTo>
                  <a:pt x="22945" y="12828"/>
                </a:lnTo>
                <a:lnTo>
                  <a:pt x="21099" y="12828"/>
                </a:lnTo>
                <a:lnTo>
                  <a:pt x="21099" y="14107"/>
                </a:lnTo>
                <a:lnTo>
                  <a:pt x="11517" y="14107"/>
                </a:lnTo>
                <a:lnTo>
                  <a:pt x="11517" y="9877"/>
                </a:lnTo>
                <a:lnTo>
                  <a:pt x="11334" y="9877"/>
                </a:lnTo>
                <a:lnTo>
                  <a:pt x="10951" y="10243"/>
                </a:lnTo>
                <a:lnTo>
                  <a:pt x="1003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E7D-0724-426A-AF34-ACE239107D6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ailable in the Lab this afterno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traffic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52E-8940-49D0-AF83-05554C2CBA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wo exam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TCP, 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CDA-CEA7-465B-A03F-3DB4F291AA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Visualization Too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m-1 (Network AniMator Version 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cket-level ani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ell supported by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xgrap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version from ns trace to xgraph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D72-C35A-492C-81E5-D7A4D20589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imation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ous rep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/SRM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itor: generate ns simulation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">
            <a:hlinkClick r:id="rId5"/>
          </p:cNvPr>
          <p:cNvSpPr/>
          <p:nvPr/>
        </p:nvSpPr>
        <p:spPr>
          <a:xfrm>
            <a:off x="7942320" y="5676840"/>
            <a:ext cx="765000" cy="451080"/>
          </a:xfrm>
          <a:custGeom>
            <a:avLst/>
            <a:gdLst>
              <a:gd name="textAreaLeft" fmla="*/ 29160 w 765000"/>
              <a:gd name="textAreaRight" fmla="*/ 735840 w 765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6620" h="21600">
                <a:moveTo>
                  <a:pt x="0" y="0"/>
                </a:moveTo>
                <a:lnTo>
                  <a:pt x="36620" y="0"/>
                </a:lnTo>
                <a:lnTo>
                  <a:pt x="36620" y="21600"/>
                </a:lnTo>
                <a:lnTo>
                  <a:pt x="0" y="21600"/>
                </a:lnTo>
                <a:close/>
              </a:path>
              <a:path fill="lightenLess" w="36620" h="21600">
                <a:moveTo>
                  <a:pt x="0" y="0"/>
                </a:moveTo>
                <a:lnTo>
                  <a:pt x="36620" y="0"/>
                </a:lnTo>
                <a:lnTo>
                  <a:pt x="35220" y="1400"/>
                </a:lnTo>
                <a:lnTo>
                  <a:pt x="1400" y="1400"/>
                </a:lnTo>
                <a:close/>
              </a:path>
              <a:path fill="darken" w="36620" h="21600">
                <a:moveTo>
                  <a:pt x="36620" y="0"/>
                </a:moveTo>
                <a:lnTo>
                  <a:pt x="36620" y="21600"/>
                </a:lnTo>
                <a:lnTo>
                  <a:pt x="35220" y="20200"/>
                </a:lnTo>
                <a:lnTo>
                  <a:pt x="35220" y="1400"/>
                </a:lnTo>
                <a:close/>
              </a:path>
              <a:path fill="darkenLess" w="36620" h="21600">
                <a:moveTo>
                  <a:pt x="36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0" y="20200"/>
                </a:lnTo>
                <a:close/>
              </a:path>
              <a:path fill="lighten" w="36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20" h="21600">
                <a:moveTo>
                  <a:pt x="11304" y="7301"/>
                </a:moveTo>
                <a:lnTo>
                  <a:pt x="12217" y="7301"/>
                </a:lnTo>
                <a:lnTo>
                  <a:pt x="12600" y="7667"/>
                </a:lnTo>
                <a:lnTo>
                  <a:pt x="21809" y="7667"/>
                </a:lnTo>
                <a:lnTo>
                  <a:pt x="22366" y="8224"/>
                </a:lnTo>
                <a:lnTo>
                  <a:pt x="22366" y="8772"/>
                </a:lnTo>
                <a:lnTo>
                  <a:pt x="24211" y="8772"/>
                </a:lnTo>
                <a:lnTo>
                  <a:pt x="24577" y="8224"/>
                </a:lnTo>
                <a:lnTo>
                  <a:pt x="25317" y="8224"/>
                </a:lnTo>
                <a:lnTo>
                  <a:pt x="25317" y="13376"/>
                </a:lnTo>
                <a:lnTo>
                  <a:pt x="24577" y="13376"/>
                </a:lnTo>
                <a:lnTo>
                  <a:pt x="24211" y="12828"/>
                </a:lnTo>
                <a:lnTo>
                  <a:pt x="22366" y="12828"/>
                </a:lnTo>
                <a:lnTo>
                  <a:pt x="22366" y="14107"/>
                </a:lnTo>
                <a:lnTo>
                  <a:pt x="12783" y="14107"/>
                </a:lnTo>
                <a:lnTo>
                  <a:pt x="12783" y="9877"/>
                </a:lnTo>
                <a:lnTo>
                  <a:pt x="12600" y="9877"/>
                </a:lnTo>
                <a:lnTo>
                  <a:pt x="12217" y="10243"/>
                </a:lnTo>
                <a:lnTo>
                  <a:pt x="11304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C8D-CBFB-4B77-A44A-686339D476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</a:t>
            </a:r>
            <a:r>
              <a:rPr b="0" lang="en-US" sz="44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st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s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650-549C-4AA2-9781-931CF1E629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mapp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0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1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2 chocol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low id assoc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0 set fid_ 40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red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1 set fid_ 41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blue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832-0FE9-4082-8497-E59D3B7E7E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color r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ape (can’t be changed after sim star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shape box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;# circle, box, hexag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rks (concentric “shapes”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“$n0 add-mark m0 blue box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2.0 “$n0 delete-mark m0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el (single str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“$n0 label \”web cache 0\”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F4C-6CCB-498C-9FE5-81925C4CC5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s: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color "green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label "abc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s (automatically handle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model Deterministic {2.0 0.9 0.1} $n0 $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mmetric links not allow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8A7-7D4A-4F57-8634-91F4E48D003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-Orien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s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(speed and memo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eful planning of modula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007-DEA9-4488-ADD1-B3037DC4C1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Topo 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Manual” layout: specify everything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0) $n(1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1) $n(2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2) $n(3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3) $n(4) orient 60de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f anything missing </a:t>
            </a:r>
            <a:r>
              <a:rPr b="0" lang="en-US" sz="3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automatic layou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A1D-EBCA-4FF1-B95D-8CCB2151AA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Protocol St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values of agent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dd-agent-trace $srm0 srm_agent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monitor-agent-trace $srm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1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2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…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delete-agent-trace $tcp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6C6-11DF-458E-9918-97027D74EA8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Mis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4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textual explaination to your 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3.5 "$ns trace-annotate \“packet drop\"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t animation r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0.0 "$ns set-animation-rate 0.1ms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64F-78EA-47D4-994C-8DF0FD3AE8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ulticast Example: nam-Enhanc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93D-EC4E-4E77-B00C-CB64367F276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0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am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olors for packets from two mcast grou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0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1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Prune packets 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predefine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0 pur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Graf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1 g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BCE-BF04-4C18-9036-878145D44C0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yout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Manual layout: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order of the link is significan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2 orient right-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3 orient right-dow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how queue on simplex link n0-&gt;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queuePos 0.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856-AEC4-4D2D-8126-C8A3E409D7F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.1, 5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lo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0 set fid_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color bl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label “Source for group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1 set fid_ 1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color r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label “Source for group 1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91D-B026-4928-A476-1DC966FED7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label “Receive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 "$n2 join-group $rcvr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0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5 "$n2 leave-group $rcvr 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delete-mark m0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 "$n2 join-group $rcvr \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1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5 "$n2 join-group $rcvr $group1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2 blu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8F2-5FD3-4AEF-814E-102C8C9CA5A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final twea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Animation was too fast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set-animation-rate 0.8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">
            <a:hlinkClick r:id="rId2"/>
          </p:cNvPr>
          <p:cNvSpPr/>
          <p:nvPr/>
        </p:nvSpPr>
        <p:spPr>
          <a:xfrm>
            <a:off x="8078760" y="5800680"/>
            <a:ext cx="831960" cy="519120"/>
          </a:xfrm>
          <a:custGeom>
            <a:avLst/>
            <a:gdLst>
              <a:gd name="textAreaLeft" fmla="*/ 33480 w 831960"/>
              <a:gd name="textAreaRight" fmla="*/ 798480 w 83196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34608" h="21600">
                <a:moveTo>
                  <a:pt x="0" y="0"/>
                </a:moveTo>
                <a:lnTo>
                  <a:pt x="34608" y="0"/>
                </a:lnTo>
                <a:lnTo>
                  <a:pt x="34608" y="21600"/>
                </a:lnTo>
                <a:lnTo>
                  <a:pt x="0" y="21600"/>
                </a:lnTo>
                <a:close/>
              </a:path>
              <a:path fill="lightenLess" w="34608" h="21600">
                <a:moveTo>
                  <a:pt x="0" y="0"/>
                </a:moveTo>
                <a:lnTo>
                  <a:pt x="34608" y="0"/>
                </a:lnTo>
                <a:lnTo>
                  <a:pt x="33208" y="1400"/>
                </a:lnTo>
                <a:lnTo>
                  <a:pt x="1400" y="1400"/>
                </a:lnTo>
                <a:close/>
              </a:path>
              <a:path fill="darken" w="34608" h="21600">
                <a:moveTo>
                  <a:pt x="34608" y="0"/>
                </a:moveTo>
                <a:lnTo>
                  <a:pt x="34608" y="21600"/>
                </a:lnTo>
                <a:lnTo>
                  <a:pt x="33208" y="20200"/>
                </a:lnTo>
                <a:lnTo>
                  <a:pt x="33208" y="1400"/>
                </a:lnTo>
                <a:close/>
              </a:path>
              <a:path fill="darkenLess" w="34608" h="21600">
                <a:moveTo>
                  <a:pt x="3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8" y="20200"/>
                </a:lnTo>
                <a:close/>
              </a:path>
              <a:path fill="lighten" w="3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08" h="21600">
                <a:moveTo>
                  <a:pt x="10297" y="7301"/>
                </a:moveTo>
                <a:lnTo>
                  <a:pt x="11211" y="7301"/>
                </a:lnTo>
                <a:lnTo>
                  <a:pt x="11594" y="7667"/>
                </a:lnTo>
                <a:lnTo>
                  <a:pt x="20803" y="7667"/>
                </a:lnTo>
                <a:lnTo>
                  <a:pt x="21360" y="8224"/>
                </a:lnTo>
                <a:lnTo>
                  <a:pt x="21360" y="8772"/>
                </a:lnTo>
                <a:lnTo>
                  <a:pt x="23205" y="8772"/>
                </a:lnTo>
                <a:lnTo>
                  <a:pt x="23571" y="8224"/>
                </a:lnTo>
                <a:lnTo>
                  <a:pt x="24310" y="8224"/>
                </a:lnTo>
                <a:lnTo>
                  <a:pt x="24310" y="13376"/>
                </a:lnTo>
                <a:lnTo>
                  <a:pt x="23571" y="13376"/>
                </a:lnTo>
                <a:lnTo>
                  <a:pt x="23205" y="12828"/>
                </a:lnTo>
                <a:lnTo>
                  <a:pt x="21360" y="12828"/>
                </a:lnTo>
                <a:lnTo>
                  <a:pt x="21360" y="14107"/>
                </a:lnTo>
                <a:lnTo>
                  <a:pt x="11777" y="14107"/>
                </a:lnTo>
                <a:lnTo>
                  <a:pt x="11777" y="9877"/>
                </a:lnTo>
                <a:lnTo>
                  <a:pt x="11594" y="9877"/>
                </a:lnTo>
                <a:lnTo>
                  <a:pt x="11211" y="10243"/>
                </a:lnTo>
                <a:lnTo>
                  <a:pt x="1029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F24-19D9-428F-9C1A-85342BC6F58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 and OTcl Sepa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for “data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packet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cl for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iodic or triggered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romise between composibility and spe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ing and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FB2-8B54-4871-8C34-64D41B8C3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201-06C6-4FFC-9A91-E7BBC45B51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Tcl Interpre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15760"/>
            <a:ext cx="4289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: object-oriented 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CL: C++ and 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etwork compon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5159520" y="4441680"/>
            <a:ext cx="1066680" cy="685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159520" y="3908520"/>
            <a:ext cx="1523880" cy="1218960"/>
            <a:chOff x="5159520" y="3908520"/>
            <a:chExt cx="1523880" cy="1218960"/>
          </a:xfrm>
        </p:grpSpPr>
        <p:sp>
          <p:nvSpPr>
            <p:cNvPr id="279" name=""/>
            <p:cNvSpPr/>
            <p:nvPr/>
          </p:nvSpPr>
          <p:spPr>
            <a:xfrm>
              <a:off x="5159520" y="3908520"/>
              <a:ext cx="1523880" cy="12189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7120" y="397656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T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157720" y="3375000"/>
            <a:ext cx="2447640" cy="1752480"/>
            <a:chOff x="5157720" y="3375000"/>
            <a:chExt cx="2447640" cy="1752480"/>
          </a:xfrm>
        </p:grpSpPr>
        <p:sp>
          <p:nvSpPr>
            <p:cNvPr id="282" name=""/>
            <p:cNvSpPr/>
            <p:nvPr/>
          </p:nvSpPr>
          <p:spPr>
            <a:xfrm>
              <a:off x="5157720" y="3375000"/>
              <a:ext cx="2447640" cy="17524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360" y="34434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cl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119920" y="5751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159520" y="2460600"/>
            <a:ext cx="3568680" cy="2666880"/>
            <a:chOff x="5159520" y="2460600"/>
            <a:chExt cx="3568680" cy="2666880"/>
          </a:xfrm>
        </p:grpSpPr>
        <p:sp>
          <p:nvSpPr>
            <p:cNvPr id="286" name=""/>
            <p:cNvSpPr/>
            <p:nvPr/>
          </p:nvSpPr>
          <p:spPr>
            <a:xfrm rot="5400000">
              <a:off x="7292520" y="3791880"/>
              <a:ext cx="16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vent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chedul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59520" y="2460600"/>
              <a:ext cx="3568680" cy="2666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02520" y="2503440"/>
              <a:ext cx="202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omponen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159520" y="5130720"/>
            <a:ext cx="3568680" cy="555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3560" y="5176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/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279-2179-424B-9516-C695BC1EC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Interactive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1%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_o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2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046-6A2F-4FD9-BAC8-7763A7BFB1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8T23:36:37Z</dcterms:modified>
  <cp:revision>698</cp:revision>
  <dc:subject/>
  <dc:title>ns-2 tutorial for IEC'00 workshop</dc:title>
</cp:coreProperties>
</file>