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075199"/>
        <c:axId val="84838316"/>
      </c:barChart>
      <c:catAx>
        <c:axId val="14075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38316"/>
        <c:crosses val="autoZero"/>
        <c:auto val="1"/>
        <c:lblAlgn val="ctr"/>
        <c:lblOffset val="100"/>
        <c:noMultiLvlLbl val="0"/>
      </c:catAx>
      <c:valAx>
        <c:axId val="84838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75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86B1-696B-41E2-BEB6-4888DB83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D88-590A-48C9-9839-76158061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B9B-B86E-442C-8A38-AEC1C755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6C9-3ABB-494A-B1EE-7FBB42BC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04D-2114-4617-BF6A-F664B023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CA8B-B8DC-472D-A7BA-1DE3348F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FC35-7214-4283-8E7F-6ACD5CD4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23F-D85F-491A-B344-16970B04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268-076D-4768-B0B5-97FAAFA6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327-6E25-4785-B93A-A068C7D1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FC0-6C51-4A68-BD71-77F975E7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F85-E00E-43D5-8407-42C9CFE7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5C859-D0CF-4A45-8611-A4E458D8F7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