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595568"/>
        <c:axId val="2780793"/>
      </c:barChart>
      <c:catAx>
        <c:axId val="735955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0793"/>
        <c:crosses val="autoZero"/>
        <c:auto val="1"/>
        <c:lblAlgn val="ctr"/>
        <c:lblOffset val="100"/>
        <c:noMultiLvlLbl val="0"/>
      </c:catAx>
      <c:valAx>
        <c:axId val="27807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955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3918-9603-4D11-BD17-9680AB24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241-9614-4ADB-B0C1-584DF360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5681-2792-44D3-81D5-1EF964C7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FF0D-4C33-4AB1-982C-45372A64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F489-A018-43AA-9823-A5F70157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3498-0BAE-45B8-914E-F0DB861E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5C3D-C7B3-494E-A98D-DD5D624B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BCC3-E615-4780-BB9E-5544E64A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AEB9-ED4E-4D1A-A8C2-2FA36FBA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0888-5E94-4961-A27F-8BB6F20A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6734-A684-4BCF-BF25-C017FF69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457F-BFC4-42B4-B593-D5ADEE42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FF9D7-EBBB-4B30-A64C-4AF69F782E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