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32468"/>
        <c:axId val="92286960"/>
      </c:barChart>
      <c:catAx>
        <c:axId val="96132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86960"/>
        <c:crosses val="autoZero"/>
        <c:auto val="1"/>
        <c:lblAlgn val="ctr"/>
        <c:lblOffset val="100"/>
        <c:noMultiLvlLbl val="0"/>
      </c:catAx>
      <c:valAx>
        <c:axId val="92286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32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1E2-A279-486B-9359-B59EA887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5B7-E9D4-4CAB-B43C-6B188103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485-502A-42C7-86D7-2099467D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182-3CC5-4550-B079-74AED12E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3AB-3708-4C79-95EF-4D131ADE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728-E136-4E5B-AFB6-2EC26C52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B83-1700-45CC-8BFA-7156EBB3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A54-8EA8-4318-AD4C-A24F3A1A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719-A521-4DD6-93FB-33E20B36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124-6F0C-43DB-8DC8-D07FB61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7C5-346B-47B6-A68C-A6B16355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805-8704-4FC1-BF35-235C0E0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F9D9C-6353-4161-A20B-E3BDFB9E64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