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11719"/>
        <c:axId val="56078826"/>
      </c:barChart>
      <c:catAx>
        <c:axId val="39511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78826"/>
        <c:crosses val="autoZero"/>
        <c:auto val="1"/>
        <c:lblAlgn val="ctr"/>
        <c:lblOffset val="100"/>
        <c:noMultiLvlLbl val="0"/>
      </c:catAx>
      <c:valAx>
        <c:axId val="56078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11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7AD-0955-4CBF-B7E5-200C1477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5EC-DFB1-4984-B901-3EA05131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E5D-27C7-4BAF-B6A7-F158D7C7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DDB-DC1A-4916-99B1-60E5F147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68C-D8E7-485D-8E90-D90B9A79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420-5506-461B-8267-AA10E12C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101-7616-4B31-986E-2003523D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A2E-FA00-4A1B-96FD-CE57D405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E0C-86DB-4D55-BA5B-C72B2CDF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CE8-205C-4183-AFE9-3599423D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2CC-0E99-4511-8035-999E56F7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2AC-1A92-4A58-9DB0-3695E8DC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4EA4F-A54A-443A-A10E-0B331DE51D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