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85111"/>
        <c:axId val="63100329"/>
      </c:barChart>
      <c:catAx>
        <c:axId val="87851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100329"/>
        <c:crosses val="autoZero"/>
        <c:auto val="1"/>
        <c:lblAlgn val="ctr"/>
        <c:lblOffset val="100"/>
        <c:noMultiLvlLbl val="0"/>
      </c:catAx>
      <c:valAx>
        <c:axId val="631003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51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D922-B36C-451C-8BA1-B4586FE96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0DD0-7503-4600-AD41-BDB432AC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730F-C3B3-452A-8976-349BF6082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98D2-0E2B-49E9-8DD5-F1F4304DD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A1E4-4965-4B72-AAC1-D9E3A158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9D0D-08A4-4AD8-BA5A-DC384620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3E42-E62D-4F92-B077-6F45A474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9CD4-DA58-4953-9244-C5BEC132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A69E-02CD-4BDD-99AA-D2A888FA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350A-5553-49B0-930E-C85C35F9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17D6-0FE4-43E8-87D7-7CC2F8AA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C3A3-F804-4464-928C-420FC11C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E0C91-2591-42D4-B123-F017FD0FF9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