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103405"/>
        <c:axId val="95757277"/>
      </c:barChart>
      <c:catAx>
        <c:axId val="321034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757277"/>
        <c:crosses val="autoZero"/>
        <c:auto val="1"/>
        <c:lblAlgn val="ctr"/>
        <c:lblOffset val="100"/>
        <c:noMultiLvlLbl val="0"/>
      </c:catAx>
      <c:valAx>
        <c:axId val="957572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1034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9E00-0CB9-4E78-AACB-15F2F1F5F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78CE-D79D-4395-9A9F-0D5AC49B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6B0D-DE8F-4669-9EA4-8FF18A1D3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7C0C-7F6A-42E5-825E-4DA9B95E3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AC82-13F0-4EBE-9427-9EAD3C6E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182B-426C-44E7-896B-F0DC06C9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D750-D81A-45FD-97C7-6DCFB1B6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2A8F-1569-4CBC-97A7-50B8E36D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199C-7D51-49C0-838A-6D6C8A0A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BD21-645E-47BB-861B-A9A28BF9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94EB-F04C-4C61-B3DE-779B0288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5399-A44E-4ED8-A95A-F3C0BC88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4066B-2668-48F2-8AE7-D42A841C87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