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04954"/>
        <c:axId val="88047847"/>
      </c:barChart>
      <c:catAx>
        <c:axId val="35604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7847"/>
        <c:crosses val="autoZero"/>
        <c:auto val="1"/>
        <c:lblAlgn val="ctr"/>
        <c:lblOffset val="100"/>
        <c:noMultiLvlLbl val="0"/>
      </c:catAx>
      <c:valAx>
        <c:axId val="88047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04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AA0-EB83-4F2E-B937-4FA4A0C2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31A-B5A6-42A5-AE74-E60B67BA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32E-03A5-41AC-9EB7-4C6EE3DD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F88-AE07-49A9-830A-AA9C9AAC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2B3-5D83-4436-A6AC-9E39966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CDA-E812-4185-ADFC-B65C7DE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FAB-221C-4226-998A-96D7AB3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8D0-9211-4B96-9AA0-9E8893C2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ABE-7411-40F6-AEF7-71BD6D9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959-67EE-455B-9877-C8B68D6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18F-051B-43E5-8C9A-7CC7E1C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7B4-0728-4146-836F-CFA00AD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55CD9-5B2A-4EC9-90B2-F1BFAD631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