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485299"/>
        <c:axId val="1121264"/>
      </c:barChart>
      <c:catAx>
        <c:axId val="104852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1264"/>
        <c:crosses val="autoZero"/>
        <c:auto val="1"/>
        <c:lblAlgn val="ctr"/>
        <c:lblOffset val="100"/>
        <c:noMultiLvlLbl val="0"/>
      </c:catAx>
      <c:valAx>
        <c:axId val="11212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852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2831-686E-4CBC-B8F7-6FCE1FEB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796-7A88-4D26-9910-38487AFA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C84-712B-4BBF-8C1D-4A92DA53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5097-B903-4D59-B5BA-DD2BB702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8F09-ADD8-4A4A-85F2-F2E6897B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405-0613-49EF-829D-D58F420E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B28E-FACA-4685-BD7F-AA74F385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0A20-0558-4B14-BF1D-38C46FE2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3BC8-9289-41EE-A26D-1F1F5E69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54CF-84BC-4919-BC0E-9781D36B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5E14-BD9A-4ACC-914E-3A6526DB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27FF-2876-48E1-B4C3-EB2C9216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58AB3-843F-424D-B095-EA31A9E643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