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21728"/>
        <c:axId val="49139741"/>
      </c:barChart>
      <c:catAx>
        <c:axId val="56221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9741"/>
        <c:crosses val="autoZero"/>
        <c:auto val="1"/>
        <c:lblAlgn val="ctr"/>
        <c:lblOffset val="100"/>
        <c:noMultiLvlLbl val="0"/>
      </c:catAx>
      <c:valAx>
        <c:axId val="49139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21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D3F-1A70-4E97-9A53-69796BC8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0F7-02EB-474F-B9E0-5659A69B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992-127F-4CF1-8ECA-EC143FE0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70D-2A31-4E88-B31B-4D0FD14D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654-F735-4DE7-AB5D-B4FE6E7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8EC-F614-4FC2-AC3B-278C379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B4D-3CBF-493C-A62C-3847F79A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A2E-D208-403D-AE17-785C187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6C1-7613-44B9-8597-6465B11D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22E-349F-40EC-AEA9-E1E0FEE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781-6F77-43C1-9EF5-E688087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B58-ECFD-4BBD-81AA-4F83135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D3362-314D-4E69-93F7-C745583D9B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