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43487"/>
        <c:axId val="54259542"/>
      </c:barChart>
      <c:catAx>
        <c:axId val="97543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59542"/>
        <c:crosses val="autoZero"/>
        <c:auto val="1"/>
        <c:lblAlgn val="ctr"/>
        <c:lblOffset val="100"/>
        <c:noMultiLvlLbl val="0"/>
      </c:catAx>
      <c:valAx>
        <c:axId val="54259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43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482-3C09-407D-A83C-0028F6E2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86E-C6E7-450B-B6DC-EE9653E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E92-3E2E-4B57-861E-5B6B3B1A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FFD-C81A-4B0F-8C23-7CFB91CC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FBE-774B-4E1C-9384-DF3F509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28A-935E-4EA4-BD2B-C710D44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887-0193-41BD-9D77-F75FBC9F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E01-1B00-471C-872C-DB8AD1F2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1AD-A856-4125-B9A2-32F3939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3D5-EFE7-47F9-9E0E-8D9A262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A05-38FA-47C6-A93C-FE935C0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3A0-BBB2-4178-9EA9-15266A4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F05D-8EF2-46ED-B776-073C75167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