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9165"/>
        <c:axId val="95742477"/>
      </c:barChart>
      <c:catAx>
        <c:axId val="9149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2477"/>
        <c:crosses val="autoZero"/>
        <c:auto val="1"/>
        <c:lblAlgn val="ctr"/>
        <c:lblOffset val="100"/>
        <c:noMultiLvlLbl val="0"/>
      </c:catAx>
      <c:valAx>
        <c:axId val="95742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9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92E-9620-41A7-918D-FD253D35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15B-351A-4D6F-9DB4-FBB8DB3E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50B-F566-49A9-AF3B-5A751925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95C-6A40-4586-899E-DC09C681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76B-6CA4-46E6-8E50-A877ECF8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7D2-D884-44A4-867D-FE2D1B50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ADF-867D-4AA3-A897-C02B2E03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8AE-CB02-4279-BABF-08F12FEF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11C-41A6-47C6-AB8D-A001B53B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E28-9783-4AAA-9694-0FF9FA0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E80-0603-44C9-86C0-634CA06D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EDA-7A72-447D-946D-834E9EC1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692E3-CF2B-4AB3-ACCE-9B03028B4F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