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05693"/>
        <c:axId val="50297466"/>
      </c:barChart>
      <c:catAx>
        <c:axId val="84505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97466"/>
        <c:crosses val="autoZero"/>
        <c:auto val="1"/>
        <c:lblAlgn val="ctr"/>
        <c:lblOffset val="100"/>
        <c:noMultiLvlLbl val="0"/>
      </c:catAx>
      <c:valAx>
        <c:axId val="50297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05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601-3DC1-4F43-B40A-62C37A19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3DB-908A-44C6-B44A-2001B48E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57D-4298-4542-B5F2-288A1E88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3B2-242D-4BFD-8566-4B994B7A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7D8-BBDB-4018-9BB0-0635616C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9DB-F1CB-45AA-9BA2-86036BE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E0C-2BB7-4EE7-9D2B-206829B0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FF4-FE49-4DA7-9CE5-A52A24F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275-3566-4661-A88B-89111C8B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418-5614-4AF2-BDF4-42D455F8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043-EF39-4769-8BA4-D5EF088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4AF-FA89-48D5-94AE-3277D1C6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75DE4-A733-46FB-B27F-FE78319EE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