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49080"/>
        <c:axId val="2558795"/>
      </c:barChart>
      <c:catAx>
        <c:axId val="72649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8795"/>
        <c:crosses val="autoZero"/>
        <c:auto val="1"/>
        <c:lblAlgn val="ctr"/>
        <c:lblOffset val="100"/>
        <c:noMultiLvlLbl val="0"/>
      </c:catAx>
      <c:valAx>
        <c:axId val="2558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9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CEC-E001-47BB-B62E-65DC8CCB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571-496A-4DC7-BDAC-0E2B0ED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A61-0228-4DE5-8AB7-665DBA18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AF7-C48A-4889-9D54-EA4F1D65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B92-DD42-412C-8225-C24D3BA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8CF-CD03-4877-AEEC-821C389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C62-5BBF-48DD-B4F8-B5CCE68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83C2-FE2B-453F-A645-C2686A7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DA0-E687-40FE-B069-489D720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7B2-7BF4-450E-8DEA-19E0D4A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263-D9A4-41E5-9B3F-EBEC9B2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EDD-54EC-4216-B4AE-2E79AD2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1497-FBD4-47C4-A361-09DD54B827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