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42349"/>
        <c:axId val="14104015"/>
      </c:barChart>
      <c:catAx>
        <c:axId val="70642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04015"/>
        <c:crosses val="autoZero"/>
        <c:auto val="1"/>
        <c:lblAlgn val="ctr"/>
        <c:lblOffset val="100"/>
        <c:noMultiLvlLbl val="0"/>
      </c:catAx>
      <c:valAx>
        <c:axId val="14104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42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D5A-85C0-4ECB-BD04-E4238324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D78-36F6-42A0-86FF-5B26420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D68-1F95-4A2C-9857-7DDC976E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841-124E-4974-B31C-50B83A7D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C37-E87D-4948-8D5B-F2FF5DE6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82A-211E-49F6-864F-89D7EDE1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B40-BB78-4977-BECA-1031C283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B6D-7801-4449-A12B-9D2D68B2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488-E47B-4271-B29F-E931D201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541-94C8-469E-8D99-78017B23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F19-38AF-4140-B847-D4F60CD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5D9-E3D2-4CAF-A905-34781D88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8835C-9CEE-4F52-89F8-C612D593F9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