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60077"/>
        <c:axId val="6920382"/>
      </c:barChart>
      <c:catAx>
        <c:axId val="38160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0382"/>
        <c:crosses val="autoZero"/>
        <c:auto val="1"/>
        <c:lblAlgn val="ctr"/>
        <c:lblOffset val="100"/>
        <c:noMultiLvlLbl val="0"/>
      </c:catAx>
      <c:valAx>
        <c:axId val="6920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60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5BE-D8F6-4D36-89F6-3032E580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133-EFBE-4B66-AAA3-D68DF315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928-3D3B-4752-AF28-AF9C470F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193-660C-4E87-8153-438569DF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73B-7315-48AE-8112-2C16F8E4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527-45A4-4AE3-A891-4E5923C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297-28CF-4F79-A9D7-E37D9485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C31-582B-4A0C-88ED-70DCEE48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7B9-A6A5-4940-909D-8CBA1765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DF4-1C4B-4B8C-AEDE-71C0C181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8E6-AECC-4857-B574-4BA09A1C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89C-94DF-4091-986E-8AB061C0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F2207-485A-46DC-A839-54DA0F1F8B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