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29077"/>
        <c:axId val="7537633"/>
      </c:barChart>
      <c:catAx>
        <c:axId val="53429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7633"/>
        <c:crosses val="autoZero"/>
        <c:auto val="1"/>
        <c:lblAlgn val="ctr"/>
        <c:lblOffset val="100"/>
        <c:noMultiLvlLbl val="0"/>
      </c:catAx>
      <c:valAx>
        <c:axId val="7537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9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FD3-794B-4914-B844-87C3CE4D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C11-1A4F-4367-8657-5F4A95A4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376-EC17-4867-978C-6C4750D7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B50-2D24-4736-8637-A47A359A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6CB-FF13-4586-B6FD-9405E2BC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09A-06AC-4A2C-8154-07303893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F91-DC86-446F-B577-5724285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207-192B-4C43-B62C-D8E6D9F5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FF2-FC31-469F-B8A2-A60F7C3C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27C-788D-47AF-8B13-83474A7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550-FCEF-4048-A128-0A198664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A0B-76F0-4FCB-9147-D04B343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1D1B-DAC2-43D7-A56A-431F67AA05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