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84591"/>
        <c:axId val="61028343"/>
      </c:barChart>
      <c:catAx>
        <c:axId val="79684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28343"/>
        <c:crosses val="autoZero"/>
        <c:auto val="1"/>
        <c:lblAlgn val="ctr"/>
        <c:lblOffset val="100"/>
        <c:noMultiLvlLbl val="0"/>
      </c:catAx>
      <c:valAx>
        <c:axId val="61028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84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AC8-C1B3-4211-95B5-394AC725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485-2BE4-41A4-9FF8-487A2638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F1B-2EAA-421B-8FF0-230EE627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169-D534-45E3-A88B-02AA1E9C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767-B9B9-4235-BDEE-9E8DD54D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322-2C1D-4CD3-B380-CAA8D33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8D2-59C6-4079-9370-774A742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E93-46F4-4941-B159-2EB34658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543-F2FE-48AD-890D-61F0626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C47-8F7F-4EFC-8719-28C76562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09E-E9C1-4528-AFD7-1B324A2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1A1-BA3F-4D10-9D08-C0896E4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C57E8-A396-487F-9C93-C9D8DDF4FB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