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2259148"/>
        <c:axId val="96661038"/>
      </c:barChart>
      <c:catAx>
        <c:axId val="3225914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661038"/>
        <c:crosses val="autoZero"/>
        <c:auto val="1"/>
        <c:lblAlgn val="ctr"/>
        <c:lblOffset val="100"/>
        <c:noMultiLvlLbl val="0"/>
      </c:catAx>
      <c:valAx>
        <c:axId val="9666103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225914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4DD5E-8BBD-4EA8-9CB9-489763FA9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D4AE6-A9E3-41DF-92A3-24463BA72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D845F-9A30-40F9-B314-3410C1320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54B94-AE2C-488B-9817-BF4023CEE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074CF-F172-460F-BF61-804F36713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13879-D296-47B1-B227-FD4DA2ED9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21CE8-CD8B-45E8-9ED9-A4EE31AB1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DF1ED-EB4B-4841-AB1B-7072431C6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C8B17-30E5-4223-8524-4BA971A35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125C7-CD2C-4C9A-8A53-B3C3C324F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A8829-0725-4980-965D-189C69172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31D48-A80C-4592-B0DC-CAE4EA02B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26EBBA-5471-4B98-9FE5-A51E5868DA1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