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399640"/>
        <c:axId val="28530415"/>
      </c:barChart>
      <c:catAx>
        <c:axId val="523996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30415"/>
        <c:crosses val="autoZero"/>
        <c:auto val="1"/>
        <c:lblAlgn val="ctr"/>
        <c:lblOffset val="100"/>
        <c:noMultiLvlLbl val="0"/>
      </c:catAx>
      <c:valAx>
        <c:axId val="28530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996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B0BC-23AB-47F2-8A21-07ECB2B4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BEE1-6520-4F8D-B55C-C579086D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406C-9EA2-47A4-8C4A-F925F08B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5EAC-A385-4785-9F6C-99155BD5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8733-BB2D-44ED-A28C-81F09402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4B3E-A8F0-4A10-8BF3-3EB3CFD4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0D6C-0C64-412C-8D5E-40BE89C6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8DA0-6D52-4130-8448-C471997F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8292-41CF-43BD-8F58-8AD0ED6D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1332-1289-4FD0-B44D-BC9778AC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5660-5BAE-471C-AED3-52FAB2F5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B10C-EAD8-4875-8501-5D85516E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6D9DD-2E9F-4BCC-B6A1-1906304B07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