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68034"/>
        <c:axId val="35128723"/>
      </c:barChart>
      <c:catAx>
        <c:axId val="75668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28723"/>
        <c:crosses val="autoZero"/>
        <c:auto val="1"/>
        <c:lblAlgn val="ctr"/>
        <c:lblOffset val="100"/>
        <c:noMultiLvlLbl val="0"/>
      </c:catAx>
      <c:valAx>
        <c:axId val="351287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68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FBD-2447-41A6-926F-EC56F3F0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3DB-1A73-4D85-8016-A631F8C4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44B-D68B-41C3-8F90-2DFD6150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497-EFB0-4546-9062-6B625696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872-A8F3-4B1A-9EE4-1C4BF5EC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6EC5-EE2D-4968-8579-C21FD77F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F43-AFCC-4B2D-B719-480B58F1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7AC7-DF01-472E-89DD-47656B2D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E50-EFA8-4DB9-8A70-6867B6F9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DB9-80DA-4384-A60E-58FD69DB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5562-4AD0-455C-BCA8-A5A4B0AE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970-C6CA-4321-B49F-2341DA5F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D62BD-B260-4486-B96C-AADC17892F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