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5086"/>
        <c:axId val="55345782"/>
      </c:barChart>
      <c:catAx>
        <c:axId val="1365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45782"/>
        <c:crosses val="autoZero"/>
        <c:auto val="1"/>
        <c:lblAlgn val="ctr"/>
        <c:lblOffset val="100"/>
        <c:noMultiLvlLbl val="0"/>
      </c:catAx>
      <c:valAx>
        <c:axId val="55345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5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D0E-961B-42E2-A97C-DC588C9D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748-3176-4CDF-94C0-0AC2A672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311-1CCB-4B2C-BBBE-682D2026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D02-A53B-413B-82AD-1008FEE7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11E-7AC9-411C-98AC-89DE46D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E27-F055-4604-BBFC-07F4884C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5BA-EDAE-44CC-989A-7D6BFF57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7D3-2917-4D0A-AFB8-B29DEA6C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1FD-6E70-4CB2-A125-A2A4DF1D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1B4-E263-4AE2-82B4-6DAB84E5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F4C-2F73-444E-A7E3-9AA44083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6A4-DD61-4D67-8575-111D82F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44ADE-E3A2-4E97-AB17-9CD43397A6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