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F1144-0813-4043-A815-7C1B93152B1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0EF4A-BA7F-4D68-B8DC-5CA77F88BCE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461AC-4532-40E4-9D8E-BFF793689AF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62838-9F93-438B-81B1-15B04779A33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A45DB-3B66-4079-BE8F-8667C9776D8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C33D3-C29D-4A80-87AC-49D09AE9851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A86A2-7FA6-4737-B78D-83A16D5CEFE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9B014-C4A7-4D78-BB89-29D73303C95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6D959-286D-427A-B0D9-BEE7DED871D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0DFE7-47F2-4450-94EB-227020996E1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40608-F538-4E09-A9CF-120A2D089B5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697D9-32B5-4D6A-9DFE-07C9E2C2AA6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9675B-3962-4DE3-AEF0-544C4C391F4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68123-D175-4C56-937A-0C9FEFEAAEA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5479-6444-4726-BD8D-B64C87C99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6E39-CB29-49CE-9020-89344E63B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AC4D-A105-4E5D-8F8C-93721B5FC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1D5D-C352-48B0-A780-A1C7CC5C9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532D-3E45-497D-8A50-CAB45423E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7C6E-8AC9-4CE1-954D-0B5B2FB2F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AC3A-3569-4B97-8357-52E4966A9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C3B3-757D-49DC-915E-2FA5C4666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11FC-F503-418D-B21C-7DA90DA4C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27E9-B486-4AA6-9DE0-D4074E43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53C3-5628-4306-9CDA-23BB9427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89E4-0110-454F-BAFE-B2A14433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A5FC8-6931-433F-99D0-CB482C1D1A30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k@dacsystem.pl" TargetMode="External"/><Relationship Id="rId2" Type="http://schemas.openxmlformats.org/officeDocument/2006/relationships/hyperlink" Target="http://tkosiak.blogspot.com/" TargetMode="External"/><Relationship Id="rId3" Type="http://schemas.openxmlformats.org/officeDocument/2006/relationships/hyperlink" Target="http://www.dacsystem.p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tcl.org/2008/Download/Saturday/EuroTcl2008-Steffen_GSoC.pdf" TargetMode="External"/><Relationship Id="rId2" Type="http://schemas.openxmlformats.org/officeDocument/2006/relationships/hyperlink" Target="http://www.eurotcl.org/2008/Download/Saturday/EuroTcl2008-Steffen_GSoC.pdf" TargetMode="External"/><Relationship Id="rId3" Type="http://schemas.openxmlformats.org/officeDocument/2006/relationships/hyperlink" Target="http://www.eurotcl.org/2008/Download/Saturday/EuroTcl2008-Steffen_GSoC.pdf" TargetMode="External"/><Relationship Id="rId4" Type="http://schemas.openxmlformats.org/officeDocument/2006/relationships/hyperlink" Target="http://www.eurotcl.org/2008/Download/Saturday/EuroTcl2008-Steffen_GSoC.pdf" TargetMode="External"/><Relationship Id="rId5" Type="http://schemas.openxmlformats.org/officeDocument/2006/relationships/hyperlink" Target="http://www.eurotcl.org/2008/Download/Saturday/EuroTcl2008-Wirl_GSoC.pdf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blicharski@gmail.com" TargetMode="External"/><Relationship Id="rId2" Type="http://schemas.openxmlformats.org/officeDocument/2006/relationships/hyperlink" Target="http://www.assembla.com/wiki/show/tkto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dah4ns@gmail.com" TargetMode="External"/><Relationship Id="rId2" Type="http://schemas.openxmlformats.org/officeDocument/2006/relationships/hyperlink" Target="http://trac.assembla.com/gsoc2008-tcl_dynamic_libraries/wik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nia.pawelczyk@gmail.com" TargetMode="External"/><Relationship Id="rId2" Type="http://schemas.openxmlformats.org/officeDocument/2006/relationships/hyperlink" Target="http://www.assembla.com/wiki/show/TkTes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l/T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oogle Summer of Code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3886200"/>
            <a:ext cx="7304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asz Kosiak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&lt;tkosiak@gmail.co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kosiak.blogsp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acsystem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cl 2008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ct 23, Manassas VA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asz Kosiak’s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ground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(tkosia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king with Tcl from 1999 (first AOLserver, now mosty Tcl ser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ner, manager, software architect/developer at DAC System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DAC System is 3 years old compan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-10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eopl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ing dedicated software (in Tcl and AJAX) for telemetry and doin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Gdańsk Bay area in northern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TriCity=Trójmias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 t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Tcl users:  zjednoczenie.com (AOLserver based websites ex. mtv.eu), Polska.pl/Poland.pl (national portal),  Intel Technology Poland (tes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in South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kow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Wojciech Kocja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kocjan.org/about-me.html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T Industrial Software Systems (general SCADA/HMI with Tk and/or AJAX UI), www.onet.pl (AOL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SoC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hi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tes from Technical University of Gdańsk after the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ve themselv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ship during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oC provided funding and mento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work on projects which d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d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nefit DAC System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work is my daily job  – I’m quite good at making things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GSoC 2008 Im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 a key but it doesn’t always work out of th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reasonable projects with committed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we expect from a studen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 programming, some motivation and no mo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tudent expectations (except Google hype)? Doable project and mentor devotion first, money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 we bother at all with Tcl 2009 GSo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M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oC is important way to bring in new Tcl develop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mercial Tcl usage at Tcl based companies is another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Contact</a:t>
            </a:r>
            <a:br>
              <a:rPr sz="36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omasz Kosiak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-mail: tk@dacsystem.pl</a:t>
            </a:r>
            <a:br>
              <a:rPr sz="28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http://tkosiak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 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(ur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iki.tcl.tk/208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de.google.com/p/google-summer-of-code-2008-tcl/downloads/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groups.google.com/group/comp.lang.tcl/browse_thread/thread/72b3e6626aa20095/50174260499805b3?hl=pl&amp;lnk=gst&amp;q=Tcl+GSoC+Projects#50174260499805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urotcl.org/2008/Download/Saturday/EuroTcl2008-Steffen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urotcl.org/2008/Download/Saturday/EuroTcl2008-Wirl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 (tkosiak)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lots, finally 9 slots after we advertised as umbrella organization for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k,  AOLserver, OpenACS/.dotLRN, XOTcl, aMSN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orgot about Expect) and Tk being part of Perl &amp; Python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slots =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9 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00 USD for students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+ 9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00 USD for mentors (Tcl Assoc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MHO we 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very capable students from Poland (3 from Gdańsk and 1 from Wars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Tcl/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k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nting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(TkPrint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rzysztof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rzysiek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icharsk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licharski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if Fly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o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Tcl implementation / C sourc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spects widgets graphical properties and gathers it nn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PDF from information in those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many widgets including canvas but not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how widgets draws itself is duplicated in tktopdf tcl source code – derived from studies on C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it support Tile? (probably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way is to 1) provide more retrospection about how widgets draws itselves  2) start with a TIP what is really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Hans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h4ns@g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as Kup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rac.assembla.com/gsoc2008-tcl_dynamic_libraries/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loading shared libraries from starkits without putting them in temporary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red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ing RTLD library (part of FreeBSD dynamic linker) to Linux and trying to make it work with Linux dynamic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RTLD – its license is compatible with Tcl so it could be bund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LD was extracted from FreeBSD sources and ported to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ad simple dynamic shared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cannot load libtcl85.so from memory (fix could be simple or quite complex – no diagn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required high degree expertise on shared libraries linker internals – not already available within Tcl community so student mosty worked on his own – when he got stuck we couldn’t really help him without doing work for him (and it wasn’t exerci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S X we have OS support, making it basically 100% an integration thing – complexity 99% in Tcl, 1% in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ther platform complexity was not in the integration, but in the load/link parts themselves, maybe 1% integration, 99% linker inter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create/bundle own linker (based on RTLD) but help to put memory-load feature into native linkers on supported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ome workarounds to use native linkers (put shared library in /dev/shm on BSD, FUSE on Linux, Windows ???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Ani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welczyk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ia.pawelczyk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or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Jeff Hob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vert syntax from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1 t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ation of wh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y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from the system's settings – revisiting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test case independence – adding setup/clean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1 is formally accomp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2..4 just scratched – se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www.assembla.com/flows/flow/a_KwcurkGr3ztnab7jn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out 110 test files is lastly touched by an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24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tktoolkit.cvs.sourceforge.net/viewvc/tktoolkit/tk/tests/?sortby=author#dir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new to Tl/Tk cannot become tktest expert without extensive help from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50% of effort wa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o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ile tests touched – project was not called TtkTests (intend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Bindings to DTrace (TclDTra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Remigiusz (Jan Andrzej) Modrzejewski &lt;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rem@go2.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Poland,Gdań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Steffen (Switzerland, Zuri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dev.lrem.net/tcldtrac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Tt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ynamic tracing framework from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successful project from Polish students (both mentor and student are very happy with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had all the required skills – what was indeed needed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C programming, b) good system administration skill which allowed him to create work environment OpenSolaris, c) kernel understanding (he writes for Linux Journal about Linux ker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tor was very helpful – helped to design API, tested on unavailable platform (Mac OS X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isturbed systematic communication – almost the same time zone (Poland – Switzer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9:29:41Z</dcterms:created>
  <dc:creator>Tomasz Kosiak</dc:creator>
  <dc:description/>
  <dc:language>en-US</dc:language>
  <cp:lastModifiedBy>tkosiak</cp:lastModifiedBy>
  <dcterms:modified xsi:type="dcterms:W3CDTF">2008-10-23T06:39:54Z</dcterms:modified>
  <cp:revision>19</cp:revision>
  <dc:subject/>
  <dc:title>Tcl/Tk Mature but Evolving Dynamic Language</dc:title>
</cp:coreProperties>
</file>