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48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1B1F-83A9-4252-A1B0-E5219A865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C02-06D7-4B50-8EB6-894163262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5774-7149-4F74-87C5-B8DAC1738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992040"/>
            <a:ext cx="250236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79C5-1D6A-49A2-8035-ED4C591A0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04F2-BEB7-4102-93DA-B6C3B4445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B852-087A-479D-A124-4512CC53F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0CE5-6711-47E0-8402-CB1EDB2D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C0C6-6831-4210-A015-95703415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4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3460-E399-4920-B3E6-8E56535C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A9EDE-FA67-4775-9179-9796602B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99204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DE79-D181-4BC7-B3FB-A28E7D37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88272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992040"/>
            <a:ext cx="7772400" cy="225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5C14-706A-47F6-B848-20699B1BD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457200"/>
          </a:xfrm>
          <a:prstGeom prst="rect">
            <a:avLst/>
          </a:prstGeom>
          <a:solidFill>
            <a:srgbClr val="339933">
              <a:alpha val="5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EA07-7F34-4D95-AA0D-B001B6D98AE6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400440"/>
            <a:ext cx="39621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D993-6ABC-46E5-B6D6-C1C8C4D1FC8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6324480"/>
            <a:ext cx="8076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47720" y="290520"/>
            <a:ext cx="43275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oSoft - Paul Obermeier‘s Portabl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544680"/>
            <a:ext cx="697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6320" rIns="76320" tIns="-76320" bIns="-76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oLogo200_text" descr=""/>
          <p:cNvPicPr/>
          <p:nvPr/>
        </p:nvPicPr>
        <p:blipFill>
          <a:blip r:embed="rId2"/>
          <a:stretch/>
        </p:blipFill>
        <p:spPr>
          <a:xfrm>
            <a:off x="7659720" y="163440"/>
            <a:ext cx="798480" cy="674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logoLarge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1555920" cy="2286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43200" y="2041560"/>
            <a:ext cx="571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aul Oberme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img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43200" y="4495680"/>
            <a:ext cx="57135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Third European Tcl/Tk User Meetin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Munich, June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651040" y="2652840"/>
            <a:ext cx="580572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obermeier@poSoft.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paul.obermeier@lfk.eads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964-76DD-43A4-A7A8-8CEDBBA0B9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Curr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2560" y="1652760"/>
            <a:ext cx="777240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Img extension was developed and maintained in major parts by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Latest version of Img (1.2.4) was uploaded to SourceForge by A. Kupries in May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page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http://sourceforge.net/projects/tkim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Project maintainers: Jeff Hobbs, Andreas Kupries, Jan Nijtma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developers: Paul Oberme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upported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Postscript (needs ghostscrip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E3A-CB53-4277-80FA-CA92B0B2E53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2560" y="1523880"/>
            <a:ext cx="7772400" cy="46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Most of the code for the following planned actions is already implemented in an alpha version available at www.poSoft.de. It will be added to SourceForge in two step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1 (June 2002): Enhancements and bug fixes of existing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support routines for reading image data in small pieces (RLE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reading of run-length encoded Windows bitmap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Speed improvements and bugfixes for XPM forma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 PPM format to Img to enable -data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Various bug fix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tep2 (July 2002): Addition of new image forma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Paintbrush‘s PCX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Plan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162920" y="5105520"/>
            <a:ext cx="129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15200" y="2438280"/>
            <a:ext cx="1219320" cy="3767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Img 1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7959-78AB-4117-B1E5-FFEE547DF3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tate of Img: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2560" y="1652760"/>
            <a:ext cx="7772400" cy="38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 following actions are taken from my personal wish list. Implementation will need the help of the community. Please feel free to contribute in any for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Near future acti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Remove usage of Tk-internal structures to enable stub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Update versions of external libraries: libpng, libjpeg, libtiff, lib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 existing format handlers for full complian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Additional image formats: Windows icons, PICT, WMF, Photoshop, ??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ssues influencing Img and T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Better transparency suppor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- Improved image manipulation: Scaling, rotation, filter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(see extension poImg at www.poSoft.d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oImg2" descr=""/>
          <p:cNvPicPr/>
          <p:nvPr/>
        </p:nvPicPr>
        <p:blipFill>
          <a:blip r:embed="rId1"/>
          <a:stretch/>
        </p:blipFill>
        <p:spPr>
          <a:xfrm>
            <a:off x="6251400" y="4435560"/>
            <a:ext cx="2359080" cy="1716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State of Im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3428-240F-4634-94D8-BB758985D5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poImg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2560" y="1523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k package for selection of image formats and corresponding op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oImgtype2" descr=""/>
          <p:cNvPicPr/>
          <p:nvPr/>
        </p:nvPicPr>
        <p:blipFill>
          <a:blip r:embed="rId1"/>
          <a:stretch/>
        </p:blipFill>
        <p:spPr>
          <a:xfrm>
            <a:off x="6653160" y="2863800"/>
            <a:ext cx="1957320" cy="3308400"/>
          </a:xfrm>
          <a:prstGeom prst="rect">
            <a:avLst/>
          </a:prstGeom>
          <a:ln w="0">
            <a:noFill/>
          </a:ln>
        </p:spPr>
      </p:pic>
      <p:pic>
        <p:nvPicPr>
          <p:cNvPr id="107" name="poImgtype1" descr=""/>
          <p:cNvPicPr/>
          <p:nvPr/>
        </p:nvPicPr>
        <p:blipFill>
          <a:blip r:embed="rId2"/>
          <a:stretch/>
        </p:blipFill>
        <p:spPr>
          <a:xfrm>
            <a:off x="4495680" y="3592440"/>
            <a:ext cx="1962360" cy="2579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700920" y="1969920"/>
            <a:ext cx="5027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Available func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OpenWin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Open selection wind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Fm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image forma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ExtLis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Get list of file extens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Ex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ile exten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GetOptByFmt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Get option string by format identifi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LoadFrom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Load settings from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urier New"/>
              </a:rPr>
              <a:t>SaveToFile: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Save settings to f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F3D1-68A4-4EC8-9E84-FFE330AB91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utility: Test pro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2560" y="2682720"/>
            <a:ext cx="7772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1: Using full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2: Using -from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3: Using -to o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Test 4: Using all sizes fr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e-DE" sz="1200" spc="-1" strike="noStrike">
                <a:solidFill>
                  <a:srgbClr val="000000"/>
                </a:solidFill>
                <a:latin typeface="Courier New"/>
              </a:rPr>
              <a:t>1x1 till 4x4 pix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oImgtest1" descr=""/>
          <p:cNvPicPr/>
          <p:nvPr/>
        </p:nvPicPr>
        <p:blipFill>
          <a:blip r:embed="rId1"/>
          <a:stretch/>
        </p:blipFill>
        <p:spPr>
          <a:xfrm>
            <a:off x="1209600" y="3857760"/>
            <a:ext cx="2981520" cy="2390760"/>
          </a:xfrm>
          <a:prstGeom prst="rect">
            <a:avLst/>
          </a:prstGeom>
          <a:ln w="0">
            <a:noFill/>
          </a:ln>
        </p:spPr>
      </p:pic>
      <p:pic>
        <p:nvPicPr>
          <p:cNvPr id="112" name="poImgtest2" descr=""/>
          <p:cNvPicPr/>
          <p:nvPr/>
        </p:nvPicPr>
        <p:blipFill>
          <a:blip r:embed="rId2"/>
          <a:stretch/>
        </p:blipFill>
        <p:spPr>
          <a:xfrm>
            <a:off x="5124600" y="3220920"/>
            <a:ext cx="3562200" cy="30276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90400" y="1509840"/>
            <a:ext cx="78645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These tests try to store the content of a canvas window in image files using all file formats and all methods (file, binary and uuencoded string) available in the Img pack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After writing we try to read the image back into a photo by using the auto-detect mechanism of Img. If that fails, we use the "-format" op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Utilities and tes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6235-AA74-45CE-AC98-C08F8676D58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Summary: List of supported forma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46280" y="1614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1600" y="1809720"/>
            <a:ext cx="5727960" cy="391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BMP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Windows bitmap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DTED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Digital Terrain Elevation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GIF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Graphics interchange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JPEG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JPE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CX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aintbrush‘s PCX format</a:t>
            </a: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NG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Portable network graphic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POSTSCRIPT: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Postscript (Read-Onl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RAW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Raw image data (matrix of floa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GI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ilicon Graphics nativ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SUN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Sun Raster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IFF: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agged image file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TGA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Truevision‘s Targa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WINDOW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Put the content of a window into a pho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BM: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        X-Windows bit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</a:rPr>
              <a:t>XPM:        </a:t>
            </a:r>
            <a:r>
              <a:rPr b="0" lang="de-DE" sz="1400" spc="-1" strike="noStrike">
                <a:solidFill>
                  <a:srgbClr val="000000"/>
                </a:solidFill>
                <a:latin typeface="Courier New"/>
              </a:rPr>
              <a:t>X-Windows pixm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ist of supported forma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01F-59AD-4D58-B069-76A1D5C4464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Happy Tcl‘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logoLarge" descr=""/>
          <p:cNvPicPr/>
          <p:nvPr/>
        </p:nvPicPr>
        <p:blipFill>
          <a:blip r:embed="rId1"/>
          <a:stretch/>
        </p:blipFill>
        <p:spPr>
          <a:xfrm>
            <a:off x="682560" y="175248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270600" y="2401920"/>
            <a:ext cx="5212800" cy="20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home: obermeier@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E-Mail at work:  paul.obermeier@lfk.eads.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y homepage:    http://www.poSoft.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Jan‘s homepage:  http://purl.oclc.org/net/nijtman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g project page: http://sourceforge.net/projects/tkim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Goodby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E743-4008-4199-A1AA-F788ECD1B9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2200" y="898200"/>
            <a:ext cx="77742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Img Inside &amp; Out: Cont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8920" y="3124080"/>
            <a:ext cx="30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out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2200" y="464832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Img from the insi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5200" y="3646440"/>
            <a:ext cx="67086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EADS/LF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Example applications from poSof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5200" y="5145120"/>
            <a:ext cx="686088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Current, planned and future state of Im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Utilities and test pr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- Summary: List of supported forma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95280" y="1584360"/>
            <a:ext cx="65962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Img is a Tcl extension to support various image file formats for use with the Tk photo imag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Besides reading/writing from/to files, it also supports image data in Tcl variables (both in binary and uuencoded form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img" descr=""/>
          <p:cNvPicPr/>
          <p:nvPr/>
        </p:nvPicPr>
        <p:blipFill>
          <a:blip r:embed="rId1"/>
          <a:stretch/>
        </p:blipFill>
        <p:spPr>
          <a:xfrm>
            <a:off x="6324480" y="3124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867280" y="39625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mg" descr=""/>
          <p:cNvPicPr/>
          <p:nvPr/>
        </p:nvPicPr>
        <p:blipFill>
          <a:blip r:embed="rId2"/>
          <a:stretch/>
        </p:blipFill>
        <p:spPr>
          <a:xfrm>
            <a:off x="6324480" y="47242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086600" y="55627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Content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40D0-9EF6-4E54-A40D-B0366F7B1E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at EADS/LF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1600200"/>
            <a:ext cx="6248520" cy="15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The system simulation department of EADS/LFK uses Tcl/Tk and Img for pre- and postprocessing of complex simulatio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DS (Mathematical Digital Simulation): Simulate all relevant components of a missile and it‘s environment in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ain design issues: Flexibility and portability (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long project duration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EADS%20logo" descr=""/>
          <p:cNvPicPr/>
          <p:nvPr/>
        </p:nvPicPr>
        <p:blipFill>
          <a:blip r:embed="rId1"/>
          <a:stretch/>
        </p:blipFill>
        <p:spPr>
          <a:xfrm>
            <a:off x="7086600" y="1914480"/>
            <a:ext cx="1276200" cy="905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62120" y="3809880"/>
            <a:ext cx="1679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1928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Configuration 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508200" y="3598920"/>
            <a:ext cx="20574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Batch process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61120" y="3598920"/>
            <a:ext cx="2057400" cy="6858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Visualization &am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ost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5" idx="3"/>
            <a:endCxn id="66" idx="1"/>
          </p:cNvCxnSpPr>
          <p:nvPr/>
        </p:nvCxnSpPr>
        <p:spPr>
          <a:xfrm>
            <a:off x="2795400" y="3941280"/>
            <a:ext cx="7128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66" idx="3"/>
            <a:endCxn id="67" idx="1"/>
          </p:cNvCxnSpPr>
          <p:nvPr/>
        </p:nvCxnSpPr>
        <p:spPr>
          <a:xfrm>
            <a:off x="5565240" y="3941280"/>
            <a:ext cx="677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719280" y="4497480"/>
            <a:ext cx="2057400" cy="163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safe editing of configuration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 based GUI‘s for configuration and execution of physical models (Example 1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508200" y="4497480"/>
            <a:ext cx="205740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ure batch programs written in C, C++ or Ada reading input files and generating output fil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61120" y="4497480"/>
            <a:ext cx="20574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Tk/Img based GUI‘s for visualization of rendered image sequences (Example 2) and postprocessing of generated simulation data (Example 3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3430-1023-463A-ADA2-ACDF19AF17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1: GUI‘s for physical mod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468440"/>
            <a:ext cx="79246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Left: Graphical frontend for MODTRAN, an atmospheric radiative transfer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ight: Graphical frontend for Thermos, a LFK developed thermal mod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ThermosMain" descr=""/>
          <p:cNvPicPr/>
          <p:nvPr/>
        </p:nvPicPr>
        <p:blipFill>
          <a:blip r:embed="rId1"/>
          <a:stretch/>
        </p:blipFill>
        <p:spPr>
          <a:xfrm>
            <a:off x="3886200" y="3084480"/>
            <a:ext cx="4724280" cy="3164040"/>
          </a:xfrm>
          <a:prstGeom prst="rect">
            <a:avLst/>
          </a:prstGeom>
          <a:ln w="0">
            <a:noFill/>
          </a:ln>
        </p:spPr>
      </p:pic>
      <p:pic>
        <p:nvPicPr>
          <p:cNvPr id="76" name="modgui" descr=""/>
          <p:cNvPicPr/>
          <p:nvPr/>
        </p:nvPicPr>
        <p:blipFill>
          <a:blip r:embed="rId2"/>
          <a:stretch/>
        </p:blipFill>
        <p:spPr>
          <a:xfrm>
            <a:off x="685800" y="2260440"/>
            <a:ext cx="5486400" cy="337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AAD-23A7-44F2-BA3D-5C3AEF42B1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2: OsmV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52760" y="1436760"/>
            <a:ext cx="723852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play of multiple infrared image sequences overlayed with vector graphic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read from files in Sun Raster form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osmvis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486400" cy="398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A25B-3607-4B26-8ECD-BEA6A8FA4F0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3: MdsVie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78600" y="1360440"/>
            <a:ext cx="69868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2D and 3D visualization of simulation results with Tk/Img and Perform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rid of height values (DTED format) interpreted as a photo imag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mdsview" descr=""/>
          <p:cNvPicPr/>
          <p:nvPr/>
        </p:nvPicPr>
        <p:blipFill>
          <a:blip r:embed="rId1"/>
          <a:stretch/>
        </p:blipFill>
        <p:spPr>
          <a:xfrm>
            <a:off x="762120" y="2065320"/>
            <a:ext cx="4876560" cy="4183200"/>
          </a:xfrm>
          <a:prstGeom prst="rect">
            <a:avLst/>
          </a:prstGeom>
          <a:ln w="0">
            <a:noFill/>
          </a:ln>
        </p:spPr>
      </p:pic>
      <p:pic>
        <p:nvPicPr>
          <p:cNvPr id="83" name="mdshelp" descr=""/>
          <p:cNvPicPr/>
          <p:nvPr/>
        </p:nvPicPr>
        <p:blipFill>
          <a:blip r:embed="rId2"/>
          <a:stretch/>
        </p:blipFill>
        <p:spPr>
          <a:xfrm>
            <a:off x="5867280" y="3200400"/>
            <a:ext cx="2362320" cy="13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LFK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DA95-B0BE-4AF2-B89B-C82BD1215D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Tk and Img based applications from p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6280" y="1828800"/>
            <a:ext cx="7708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www.poSoft.de is my private homepage: Paul Obermeier‘s Portable Softwa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Home of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Tools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, a set of portable Tcl/Tk applica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Diff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:       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recursively compare the contents of two director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Bitmap: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   Portable tool to view and manipulate X-Window bitmaps.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diff: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compare two images (Example 4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Imgview: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ortable tool to view and manipulate images (Example 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7456-B5A2-49E5-B2CA-62CF1B283D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4: poImgdif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560" y="1562040"/>
            <a:ext cx="541332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comparison tool.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mages are placed side by side for visual comparis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Generation of difference images and histogram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oImgdiff1" descr=""/>
          <p:cNvPicPr/>
          <p:nvPr/>
        </p:nvPicPr>
        <p:blipFill>
          <a:blip r:embed="rId1"/>
          <a:stretch/>
        </p:blipFill>
        <p:spPr>
          <a:xfrm>
            <a:off x="682560" y="2743200"/>
            <a:ext cx="4956120" cy="3435480"/>
          </a:xfrm>
          <a:prstGeom prst="rect">
            <a:avLst/>
          </a:prstGeom>
          <a:ln w="0">
            <a:noFill/>
          </a:ln>
        </p:spPr>
      </p:pic>
      <p:pic>
        <p:nvPicPr>
          <p:cNvPr id="89" name="poImgdiff2" descr=""/>
          <p:cNvPicPr/>
          <p:nvPr/>
        </p:nvPicPr>
        <p:blipFill>
          <a:blip r:embed="rId2"/>
          <a:stretch/>
        </p:blipFill>
        <p:spPr>
          <a:xfrm>
            <a:off x="6324480" y="3962520"/>
            <a:ext cx="2052720" cy="2238120"/>
          </a:xfrm>
          <a:prstGeom prst="rect">
            <a:avLst/>
          </a:prstGeom>
          <a:ln w="0">
            <a:noFill/>
          </a:ln>
        </p:spPr>
      </p:pic>
      <p:pic>
        <p:nvPicPr>
          <p:cNvPr id="90" name="poImgdiff3" descr=""/>
          <p:cNvPicPr/>
          <p:nvPr/>
        </p:nvPicPr>
        <p:blipFill>
          <a:blip r:embed="rId3"/>
          <a:stretch/>
        </p:blipFill>
        <p:spPr>
          <a:xfrm>
            <a:off x="6351480" y="1447920"/>
            <a:ext cx="2030400" cy="249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928-6A05-43D6-A619-B134AC20E1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2560" y="898200"/>
            <a:ext cx="7772400" cy="468360"/>
          </a:xfrm>
          <a:prstGeom prst="rect">
            <a:avLst/>
          </a:prstGeom>
          <a:solidFill>
            <a:srgbClr val="339933">
              <a:alpha val="50000"/>
            </a:srgbClr>
          </a:solidFill>
          <a:ln w="9360">
            <a:solidFill>
              <a:srgbClr val="339933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Times New Roman"/>
              </a:rPr>
              <a:t>Example 5: poImg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2560" y="1639800"/>
            <a:ext cx="350856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Portable image view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Includes image browser and batch format convers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oImgview1" descr=""/>
          <p:cNvPicPr/>
          <p:nvPr/>
        </p:nvPicPr>
        <p:blipFill>
          <a:blip r:embed="rId1"/>
          <a:stretch/>
        </p:blipFill>
        <p:spPr>
          <a:xfrm>
            <a:off x="6051600" y="1576440"/>
            <a:ext cx="2403360" cy="4473360"/>
          </a:xfrm>
          <a:prstGeom prst="rect">
            <a:avLst/>
          </a:prstGeom>
          <a:ln w="0">
            <a:noFill/>
          </a:ln>
        </p:spPr>
      </p:pic>
      <p:pic>
        <p:nvPicPr>
          <p:cNvPr id="94" name="poImgview4" descr=""/>
          <p:cNvPicPr/>
          <p:nvPr/>
        </p:nvPicPr>
        <p:blipFill>
          <a:blip r:embed="rId2"/>
          <a:stretch/>
        </p:blipFill>
        <p:spPr>
          <a:xfrm>
            <a:off x="682560" y="2973240"/>
            <a:ext cx="5108760" cy="3046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mg Inside &amp; Out: poSoft example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33A6C-89EF-4499-9B45-C12E8C401B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0T13:38:28Z</dcterms:created>
  <dc:creator>LFK - Installation</dc:creator>
  <dc:description/>
  <dc:language>en-US</dc:language>
  <cp:lastModifiedBy>Who cares</cp:lastModifiedBy>
  <cp:lastPrinted>2002-06-09T11:48:02Z</cp:lastPrinted>
  <dcterms:modified xsi:type="dcterms:W3CDTF">2002-06-09T20:27:43Z</dcterms:modified>
  <cp:revision>147</cp:revision>
  <dc:subject/>
  <dc:title>Methoden und Tools der IR-Bildgenerierung - Gliederung</dc:title>
</cp:coreProperties>
</file>