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2C60-4F9C-4521-A948-9F010DBF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C30A-9E98-47D0-82E1-6D274C1B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F4E8-B66D-4762-9739-89F18E8F4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FDD0-A83D-4C8E-AFC8-E45DBE52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9403BE-BE6F-4B3B-A65F-B86738581EC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B5241-16C2-4B48-86F6-E6848521A01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EF858-A11A-4183-A15E-2A912F1549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AB444-5D78-407B-9977-3253F181019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87FC8C-F41F-4DDC-8582-054F8737E9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9286A-BAD2-433B-9FB0-725DBB15D3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4985C3-313D-4440-86BA-70E89A7FC0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AD72-B62A-44D4-8F48-F44CA0E44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41D051-8E02-4209-AAB7-697EEDE5948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3124C-D72A-4FC9-A14E-897DDF56D21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9F7632-A418-445F-982D-CB9DC6AD04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99A9B-0977-4637-BFAB-B9494567F2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3C8AA2-7341-4DFA-80FE-60BEBB63F1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B26C-62ED-425E-9D56-C8EF936A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42A0-6A05-4B8D-972C-E738C05F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D01C-6C84-465E-BAEB-D800FCF12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095-3203-4D69-9A75-EF90D566A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08B-9638-4036-8F94-E356B5F0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E602-EFC8-4434-919F-A4713138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C429-8839-4188-B614-D0F52C576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456F-880F-46BA-A4CC-8B727A7013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0FB4-1345-4406-AA01-656245197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52280" y="6248520"/>
            <a:ext cx="883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 8.4 Over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lset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dex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search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nchronous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teps to 8.4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esting, testing, testing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9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035920" y="205272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 8.4.0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83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772400" y="2838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92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96080" y="3886200"/>
            <a:ext cx="91440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Pro 2.0 beta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3200"/>
            </a:b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ly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7-04T19:20:54Z</dcterms:modified>
  <cp:revision>406</cp:revision>
  <dc:subject/>
  <dc:title>8.4 Tcl Overview</dc:title>
</cp:coreProperties>
</file>