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A31F-E85A-4A96-884C-641239A6F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8644-A57A-465E-A29B-41A0D1E39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548E-8C17-44C0-BF46-273C20B5F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57EE-E3CA-4703-AE0B-79F1DC50D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7C7022-982E-440D-A082-31F89E10E0F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886CC7-3AC2-4599-B786-19A28724229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0FBE71-4795-4A40-97EF-FEF132F4956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794C3D-7B6B-4031-AE6E-E476B42FBB0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17F2CC-AFD3-4D1F-89F2-3625ED15B20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692073-9289-4FAE-AC9C-0BC563C0DEC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6863C6-8ACD-4A4D-9566-5BD442DA1E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09B0-CF29-4AC7-84BD-F78F752ED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7BEC5C-913E-4008-861A-32E594BC716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16B06D-86FA-4F0C-8840-4EE668D7BC2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8A3EA4-A0F9-419F-84C1-845FA1FA938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C4F9BE-1467-4597-A394-DDE83B24069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7C4042-1EFA-47BF-83AF-3F6EF2BBCF3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BEC8-B732-40A3-8C40-3A165D914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7A74-4019-43BE-86DA-7D0682CD8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0D3B-5F0D-4EF3-BAD3-9FA74297E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CB03-D8FF-4928-97B1-F30188500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1D68-23D3-4A83-8AE5-AAE89075E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44E4-46DC-4F9D-B4A9-3E782BA8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BF77-5675-424F-AFA4-F2AA0685D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59B8F-BDEC-46EC-97D0-2DA30B56E2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8D7B0-100F-4FE4-AE44-9EC7C2CF50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3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Pro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3.4.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529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suscitated TclPro as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clPro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Pro 2.0 now in b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in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patch releases since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3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new I/O core (added in 8.3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egree of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ment release, now at 8.4b1-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just been feature-fro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400" spc="-1" strike="noStrike">
                <a:solidFill>
                  <a:srgbClr val="000000"/>
                </a:solidFill>
                <a:latin typeface="Lucida Console"/>
              </a:rPr>
              <a:t>spinbox, labelframe, panedwind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wid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FS,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6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%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/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%/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/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1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Hamburg, June 8-9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4 Original papers and tuto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rom using Tcl with Cobo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the Web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  to Tcl on a PDA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Carsten Zerbst</a:t>
            </a:r>
            <a:br>
              <a:rPr sz="3200"/>
            </a:br>
            <a:br>
              <a:rPr sz="3200"/>
            </a:b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u-harburg.de/skf/tcltk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6:31Z</dcterms:modified>
  <cp:revision>405</cp:revision>
  <dc:subject/>
  <dc:title>Tcl'Europe 2002 State of Tcl</dc:title>
</cp:coreProperties>
</file>