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435E-9910-449F-8A77-D29AA5D61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F21E-5553-4C39-AC26-7645DFA8A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1ED9-F4B8-4857-AF5E-98C93B1DE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7221-D000-45D1-81C7-07C2338FD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D51A9-373A-4C01-A564-ABC87F69A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13E0B-80C0-440F-8B7E-1DFEF27B5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DC0C2-7E98-4BF1-A3EB-E32335D5D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8DE85-E7BF-421D-AD77-0F25EB11E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1FA70-F723-4826-8D9C-6550CB9C3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DB9DC-F069-4771-8691-25F2FD921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99F3E-7421-4106-87F6-985422D1C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EE7C-CCDA-4B6E-8078-51B17019E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892F9-474B-4D7C-9C67-0AB370901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C569F-C830-46B0-A253-6473ECF1B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BB47A-3E48-45BC-A194-480F0B324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1B75D-2D9C-4BEE-822F-97FA50E20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CE841-97B8-4DFC-B4D1-F76EC3CD2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FCF4-8591-4FD9-A193-A6C7FF38A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D4FA-54EC-48A2-88A7-02A094F80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FEE3-288E-456E-811C-17FEA15DD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BB78-8E54-4A15-A01F-59B5D3F5F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CC3E-779D-4C08-BBBD-EF4B3539D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D163-A253-4BBB-B676-9AB6DC579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75C2-92C8-48CC-9D32-113A6B6A1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F7FC5-720E-495D-B4D4-15C63B09373A}" type="slidenum"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0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8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9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10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4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4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D141E-BAEC-499E-9A3B-974C1F9C2CF4}" type="slidenum"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ccecff"/>
                </a:solidFill>
                <a:latin typeface="Arial"/>
              </a:rPr>
              <a:t>Creación de intros 4k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Jorge “slack” Gorb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Bernat “shash” Muñoz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0" y="46512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ccecff"/>
                </a:solidFill>
                <a:latin typeface="Verdana"/>
              </a:rPr>
              <a:t>Crear la ventana usando una clase ya existente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323640" y="2781000"/>
            <a:ext cx="835164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Usar la clase “EDIT” que ya está registrad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No usar el parámetro de la instanci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hWnd = CreateWindow("EDIT","EDIT"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WS_POPUP|WS_VISIBLE,0,0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width,height,0,0,0,0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0" y="46512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ccecff"/>
                </a:solidFill>
                <a:latin typeface="Verdana"/>
              </a:rPr>
              <a:t>Generar todo el sonido durante el loading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323640" y="2349360"/>
            <a:ext cx="835164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Usemos sintetizador o módulo, podemos pregenerar toda la ond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Desventaja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Loading muy largo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Consumo masivo de memori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Ventaja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No necesitamos usar un threa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Toda la reproduccion de audio se reduce a una llamada a PlaySound(...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Bucle principal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323640" y="2349360"/>
            <a:ext cx="835164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Como no usamos una clase, no tenemos el WndProc (...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usaremos mensaj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Un bucle principal seria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while (!GetAsyncKeyState(VK_ESCAPE)) // Salimos con ESC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RenderIntro (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Compresores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23640" y="2349000"/>
            <a:ext cx="83516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Solo vale la pena usar Crinkle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Programado pensando en 4k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Mejor compres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Mejor compatibilida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Muy lento para comprimi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Usa muchisima memoria al descomprimi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Necesidad de aprender como comprim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Tecnicas para VisualC 2003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36000" y="2349360"/>
            <a:ext cx="910764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Al quitar las librerías estándar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Tenemos que definir fltused si usamos la FP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extern "C" _fltused = 1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El WinMain cambia por WinMainCRTStart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extern "C" __declspec(noreturn) void WinMainCRTStartup(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Tenemos que definir nuestro propio fto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Tecnicas para VisualC 2003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36000" y="2349360"/>
            <a:ext cx="910764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Opciones de compilació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Usar fastcall como formato de función estandar (No siempre comprime mejor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Generar código con optimización por Velocidad o Complet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Usar optimizaciones globa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En la generación de código, deshabilitar “Comprobación de seguridad de buffer”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Intros 4k en Linux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écnicas similares a las de Window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Reducir el número de </a:t>
            </a:r>
            <a:r>
              <a:rPr b="0" i="1" lang="es-ES" sz="2800" spc="-1" strike="noStrike">
                <a:solidFill>
                  <a:srgbClr val="eaeaea"/>
                </a:solidFill>
                <a:latin typeface="Arial"/>
              </a:rPr>
              <a:t>imports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 al mínimo (incluyendo la libc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Escribir código </a:t>
            </a:r>
            <a:r>
              <a:rPr b="0" i="1" lang="es-ES" sz="2800" spc="-1" strike="noStrike">
                <a:solidFill>
                  <a:srgbClr val="eaeaea"/>
                </a:solidFill>
                <a:latin typeface="Arial"/>
              </a:rPr>
              <a:t>compressor-friendl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eaeaea"/>
                </a:solidFill>
                <a:latin typeface="Arial"/>
              </a:rPr>
              <a:t>Gzip-dropping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rucos específico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Funciones built-in (</a:t>
            </a:r>
            <a:r>
              <a:rPr b="0" i="1" lang="es-ES" sz="2800" spc="-1" strike="noStrike">
                <a:solidFill>
                  <a:srgbClr val="eaeaea"/>
                </a:solidFill>
                <a:latin typeface="Arial"/>
              </a:rPr>
              <a:t>intrinsics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Carga de libs dinámicas “a mano”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sstrip (optimización de cabeceras ELF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libc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–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nostartfiles:</a:t>
            </a: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 elimina el código de inicialización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Nuevo punto de entrada: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_start()</a:t>
            </a: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. </a:t>
            </a: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Debemos llamar a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exit()</a:t>
            </a: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 al final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–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nostdlib:</a:t>
            </a: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 evitamos enlazar con la libc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Como ya no tenemos exit(), debemos definir uno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Courier New"/>
              </a:rPr>
              <a:t>#define exit(code) \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Courier New"/>
              </a:rPr>
              <a:t>asm(“int $0x80;”::”a”(1),”b”(code))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Gzip-dropp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Igual que el CAB-dropping en Windows. Aprovechamos que gzip está incluido en el sistema base de cualquier distribución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#Tamaño del unpacker: 56 bytes :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a=/tmp/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tail –n+7 $0|zcat&gt;$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chmod +x $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$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rm $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exi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[ejecutable original “gzippeado”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GCC Built-i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Versiones in-line optimizadas de funciones habitual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Por ejemplo: 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sinf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cosf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memset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 ..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Ejemplo de uso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float x = __builtin_sinf(angle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-ffast-math !!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Útiles para los que no dominamos el ASM ;-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22000" y="260280"/>
            <a:ext cx="822636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ccecff"/>
                </a:solidFill>
                <a:latin typeface="Arial"/>
              </a:rPr>
              <a:t>Qué explicaremo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755640" y="3068280"/>
            <a:ext cx="79200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Dificultades al crear una 4k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écnicas específicas de Window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écnicas específicas de Linux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écnicas generales a todas las 4k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Opciones de compilació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Optimización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-O1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-O2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-O3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: velocida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-Os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: tamaño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A veces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–O</a:t>
            </a:r>
            <a:r>
              <a:rPr b="0" i="1" lang="es-ES" sz="2400" spc="-1" strike="noStrike">
                <a:solidFill>
                  <a:srgbClr val="eaeaea"/>
                </a:solidFill>
                <a:latin typeface="Courier New"/>
              </a:rPr>
              <a:t>n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 genera código más pequeño (o más compresible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fastcalls” con gcc: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__attribute__((regparm(n))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Hay una serie de flags que producen resultados poco predecibles al comprimir </a:t>
            </a:r>
            <a:r>
              <a:rPr b="0" lang="es-ES" sz="24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i="1" lang="es-ES" sz="2400" spc="-1" strike="noStrike">
                <a:solidFill>
                  <a:srgbClr val="eaeaea"/>
                </a:solidFill>
                <a:latin typeface="Verdana"/>
              </a:rPr>
              <a:t>brute-forcing </a:t>
            </a: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con “gc masher”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Probando versiones diferentes de GCC te puedes llevar alguna sorpresa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Carga de libs dinámica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Las secciones necesarias en la cabecera ELF para importar funciones de libs dinámicas son demasiado grande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Podemos usar dlopen() y dlsym() para cargarlas nosotros mismos en tiempo de ejecució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void *handle=dlopen(“libGL.so”, RTLD_NOW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mi_glEnable = dlsym(handle, “glEnable”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SD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Incluida en la instalación básica de la mayor parte de distribuciones (estándar de facto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Nos permite crear intros portables con un poco de cuidado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ecnicas generales: openG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2636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Objetivo: reducir el número de </a:t>
            </a:r>
            <a:r>
              <a:rPr b="0" i="1" lang="es-ES" sz="3200" spc="-1" strike="noStrike">
                <a:solidFill>
                  <a:srgbClr val="eaeaea"/>
                </a:solidFill>
                <a:latin typeface="Verdana"/>
              </a:rPr>
              <a:t>imports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y llamada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hacer </a:t>
            </a:r>
            <a:r>
              <a:rPr b="0" i="1" lang="es-ES" sz="3200" spc="-1" strike="noStrike">
                <a:solidFill>
                  <a:srgbClr val="eaeaea"/>
                </a:solidFill>
                <a:latin typeface="Verdana"/>
              </a:rPr>
              <a:t>backface culll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s-ES" sz="3200" spc="-1" strike="noStrike">
                <a:solidFill>
                  <a:srgbClr val="eaeaea"/>
                </a:solidFill>
                <a:latin typeface="Courier New"/>
              </a:rPr>
              <a:t>glEnable(GL_CULL_FACE);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utilizar </a:t>
            </a:r>
            <a:r>
              <a:rPr b="0" lang="es-ES" sz="3200" spc="-1" strike="noStrike">
                <a:solidFill>
                  <a:srgbClr val="eaeaea"/>
                </a:solidFill>
                <a:latin typeface="Courier New"/>
              </a:rPr>
              <a:t>glGenTextures glGenLists. 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Gestiona tú mismo los ID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usar coordenadas de textura: </a:t>
            </a:r>
            <a:r>
              <a:rPr b="0" lang="es-ES" sz="3200" spc="-1" strike="noStrike">
                <a:solidFill>
                  <a:srgbClr val="eaeaea"/>
                </a:solidFill>
                <a:latin typeface="Courier New"/>
              </a:rPr>
              <a:t>glTexGen*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ecnicas generales: openG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68000" y="2852280"/>
            <a:ext cx="822636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Si sólo usamos una textura, podemos usar el ID 0 sin hacer un </a:t>
            </a:r>
            <a:r>
              <a:rPr b="0" lang="es-ES" sz="3200" spc="-1" strike="noStrike">
                <a:solidFill>
                  <a:srgbClr val="eaeaea"/>
                </a:solidFill>
                <a:latin typeface="Courier New"/>
              </a:rPr>
              <a:t>glBindTextu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Si no usamos mipmaps solo hay que definir el modo de filtrado para GL_MIN_FILT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ecnicas general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94920" y="191628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Reutilizar cada efecto todo lo que se pueda (si puedes usar solo uno mejor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No hacer casts (si no es necesario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Usar inline para las funciones que sólo se llaman una vez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A veces puede interesar reemplazar parámetros de funciones con variables globale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ecnicas general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94920" y="191628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No utilizar variables para todo aquello que sea constant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No repetir cálculos complejos parecido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Es conveniente igualar constantes con valores parecidos (mejora la compresión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ecnicas general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79280" y="2133720"/>
            <a:ext cx="87854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Links interesantes: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Código Etram: </a:t>
            </a:r>
            <a:r>
              <a:rPr b="0" i="1" lang="es-ES" sz="2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i="1" lang="es-ES" sz="2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i="1" lang="es-ES" sz="2600" spc="-1" strike="noStrike">
                <a:solidFill>
                  <a:srgbClr val="00e837"/>
                </a:solidFill>
                <a:latin typeface="Arial"/>
              </a:rPr>
              <a:t>http://collapse.scenesp.org/shash/clp_etram_src.rar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600" spc="-1" strike="noStrike">
                <a:solidFill>
                  <a:srgbClr val="eaeaea"/>
                </a:solidFill>
                <a:latin typeface="Arial"/>
              </a:rPr>
              <a:t>Código 4ks en linux: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i="1" lang="es-ES" sz="2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i="1" lang="es-ES" sz="2600" spc="-1" strike="noStrike">
                <a:solidFill>
                  <a:srgbClr val="00e837"/>
                </a:solidFill>
                <a:latin typeface="Arial"/>
              </a:rPr>
              <a:t>http://slack.codemaniacs.com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Homepage de Fit (más fuentes de 4k en linux)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4k intro kit: </a:t>
            </a:r>
            <a:r>
              <a:rPr b="0" i="1" lang="es-ES" sz="2600" spc="-1" strike="noStrike">
                <a:solidFill>
                  <a:srgbClr val="00e837"/>
                </a:solidFill>
                <a:latin typeface="Arial"/>
              </a:rPr>
              <a:t>http://www.northerndragons.ca/mod.php?mod=userpage&amp;menu=2227&amp;page_id=76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Hugi Coding Edition:</a:t>
            </a:r>
            <a:r>
              <a:rPr b="0" i="1" lang="es-ES" sz="2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i="1" lang="es-ES" sz="2600" spc="-1" strike="noStrike">
                <a:solidFill>
                  <a:srgbClr val="00e837"/>
                </a:solidFill>
                <a:latin typeface="Arial"/>
              </a:rPr>
              <a:t>http://www.hugi.scene.org/main.php?page=hugise01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68000" y="285228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800" spc="-1" strike="noStrike">
                <a:solidFill>
                  <a:srgbClr val="ccecff"/>
                </a:solidFill>
                <a:latin typeface="Arial"/>
              </a:rPr>
              <a:t>Preguntas?</a:t>
            </a:r>
            <a:endParaRPr b="0" lang="en-US" sz="8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822636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Hablad ahora, o callad para siempre !!!on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(o buscadnos en #demoscene en irc-hispano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22000" y="260280"/>
            <a:ext cx="822636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ccecff"/>
                </a:solidFill>
                <a:latin typeface="Arial"/>
              </a:rPr>
              <a:t>Qué no explicaremo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755640" y="3068280"/>
            <a:ext cx="79200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Intros 100% ensamblad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Como programar intros desde cer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Creación de sintetizadores o similar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Direct3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Otras muchas cosas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Arial"/>
              </a:rPr>
              <a:t>Dificultades al crear una 4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755640" y="2565000"/>
            <a:ext cx="7920000" cy="30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existen herramientas comerciales adecuada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existen soluciones directa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ecesitamos crear todos los contenidos pensando en la limitación de 4 kb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Arial"/>
              </a:rPr>
              <a:t>Contenidos orientados a 4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68360" y="2565360"/>
            <a:ext cx="842472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podemos tratar los datos como en una demo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Cualquier contenido no generado, ocuparía demasiado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En dos palabras: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GENERAR TODO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Gráficos 2D/3D, música, hasta sincro</a:t>
            </a: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Arial"/>
              </a:rPr>
              <a:t>Programación orientada a 4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755640" y="2565000"/>
            <a:ext cx="7920000" cy="30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Usar ensamblad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Más control sobre el códig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Menos productiv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Difícil de optimizar globalment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Ganar a un compilador es difíci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écnicas específicas de Window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755640" y="3068280"/>
            <a:ext cx="79200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Inicialización de la 4k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Bucle principa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Uso del visualC para ejecutables pequeño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Inicialización de la 4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755640" y="2781000"/>
            <a:ext cx="79200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Método estándar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Crear y registrar una clas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Crear nuestra ventan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Iniciar el thread de sonid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Iniciar openG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Inicialización de la 4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323640" y="2781000"/>
            <a:ext cx="835164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Método para intros de 4k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Crear la ventana usando una clase ya existent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Generar todo el sonido durante el loading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Iniciar openG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3T23:19:00Z</dcterms:created>
  <dc:creator>shash_prt</dc:creator>
  <dc:description/>
  <dc:language>en-US</dc:language>
  <cp:lastModifiedBy>shash_prt</cp:lastModifiedBy>
  <dcterms:modified xsi:type="dcterms:W3CDTF">2005-11-07T18:20:17Z</dcterms:modified>
  <cp:revision>8</cp:revision>
  <dc:subject/>
  <dc:title>Creación de intros 4k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696765827</vt:r8>
  </property>
</Properties>
</file>